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9.jpeg" ContentType="image/jpe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6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D0AD-B572-4242-A763-A6B0BF5A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0F41-8E3B-458E-99D9-65A30AFA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D9F7-CDF3-40A4-893E-AEE7B3B8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A6F-E080-4714-8EC2-BDBB1D1E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5CF-438A-49AD-8B1C-56055BF8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A32A-274E-4687-A92C-2A0C8A39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5E1-EC90-422F-B7E8-4BF24A53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428-2EAC-4022-9039-A473F76B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100E-205E-43D5-92DD-D1242185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731E-9A9E-4ABC-B229-B93A5CEC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E3F5-6F03-438F-ACB4-6F81AF33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AE19-BFCF-415B-99F6-1403B9FB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7556-B378-4410-BB22-280ACFE75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7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3.pn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26920" y="260280"/>
            <a:ext cx="7992360" cy="6336720"/>
            <a:chOff x="826920" y="260280"/>
            <a:chExt cx="7992360" cy="6336720"/>
          </a:xfrm>
        </p:grpSpPr>
        <p:sp>
          <p:nvSpPr>
            <p:cNvPr id="42" name=""/>
            <p:cNvSpPr/>
            <p:nvPr/>
          </p:nvSpPr>
          <p:spPr>
            <a:xfrm>
              <a:off x="898920" y="332280"/>
              <a:ext cx="7774920" cy="619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44" name=""/>
              <p:cNvSpPr/>
              <p:nvPr/>
            </p:nvSpPr>
            <p:spPr>
              <a:xfrm>
                <a:off x="4604400" y="3463920"/>
                <a:ext cx="4141440" cy="3133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26920" y="260280"/>
                <a:ext cx="7992360" cy="3203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26920" y="3463920"/>
                <a:ext cx="3777480" cy="31330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898560" y="316080"/>
            <a:ext cx="7788240" cy="62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20720" y="6093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KD &amp; JF &amp; Ł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2920" y="3462480"/>
            <a:ext cx="1439640" cy="1439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2920" y="1949400"/>
            <a:ext cx="1439640" cy="1440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2920" y="4975200"/>
            <a:ext cx="1439640" cy="1440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920" y="438120"/>
            <a:ext cx="1439640" cy="1440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653000"/>
            <a:ext cx="37764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Warszawa, marzec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Konrad Durno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Jędrzej Ful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Łukasz Jance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10000" y="184464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Odróżnian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komputerów od ludz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188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189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977840" y="2230560"/>
            <a:ext cx="662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Ok. 2000 r. maszyny będą potrafiły oszukać 30% przesłuchujących po pięciominutowej rozmow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Do zrealizowania tych założeń wystarczy maszyna o 119MB 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Do dziś żaden program nie przeszedł Testu Turing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01240" y="1125360"/>
            <a:ext cx="3225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Przewidywania Turing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54760" y="64944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Test Turi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205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206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1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2556000" y="1700280"/>
            <a:ext cx="4397400" cy="4086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254760" y="64944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Test Turi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221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222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978200" y="2230200"/>
            <a:ext cx="6410160" cy="28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Test Turinga – problem łatwo rozwiązywalny przez człowieka, a niemożliwy do rozwiązania przez maszyn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77560" y="1125360"/>
            <a:ext cx="128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efinic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54760" y="64944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Test Turi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238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239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0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4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977840" y="2230560"/>
            <a:ext cx="640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zapobieganie oszustwom z wykorzystaniem BOTó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Spamow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Podbijanie wyników głosow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Nadużywanie darmowych serwer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Craw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Łamanie hase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Wysyłanie SMS-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33480" y="1125360"/>
            <a:ext cx="195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zastosowa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54760" y="64944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Test Turi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255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256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1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1692360" y="2271600"/>
            <a:ext cx="6912000" cy="30816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64480" y="5829480"/>
            <a:ext cx="32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3333cc"/>
                </a:solidFill>
                <a:uFillTx/>
                <a:latin typeface="Lucida Sans Unicode"/>
              </a:rPr>
              <a:t>www.humanverify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54760" y="64944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Test Turi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32200" y="107316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273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9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6" name="" descr=""/>
          <p:cNvPicPr/>
          <p:nvPr/>
        </p:nvPicPr>
        <p:blipFill>
          <a:blip r:embed="rId5"/>
          <a:stretch/>
        </p:blipFill>
        <p:spPr>
          <a:xfrm>
            <a:off x="2346480" y="3290760"/>
            <a:ext cx="4452840" cy="14954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257640" y="5829480"/>
            <a:ext cx="236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3333cc"/>
                </a:solidFill>
                <a:uFillTx/>
                <a:latin typeface="Lucida Sans Unicode"/>
              </a:rPr>
              <a:t>www.yahoo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54760" y="64944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Test Turi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32200" y="107316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826920" y="260280"/>
            <a:ext cx="7992360" cy="6336720"/>
            <a:chOff x="826920" y="260280"/>
            <a:chExt cx="7992360" cy="6336720"/>
          </a:xfrm>
        </p:grpSpPr>
        <p:sp>
          <p:nvSpPr>
            <p:cNvPr id="291" name=""/>
            <p:cNvSpPr/>
            <p:nvPr/>
          </p:nvSpPr>
          <p:spPr>
            <a:xfrm>
              <a:off x="898920" y="332280"/>
              <a:ext cx="7774920" cy="619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293" name=""/>
              <p:cNvSpPr/>
              <p:nvPr/>
            </p:nvSpPr>
            <p:spPr>
              <a:xfrm>
                <a:off x="4604400" y="3463920"/>
                <a:ext cx="4141440" cy="3133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26920" y="260280"/>
                <a:ext cx="7992360" cy="3203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26920" y="3463920"/>
                <a:ext cx="3777480" cy="31330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6" name=""/>
          <p:cNvSpPr/>
          <p:nvPr/>
        </p:nvSpPr>
        <p:spPr>
          <a:xfrm>
            <a:off x="898560" y="316080"/>
            <a:ext cx="7788240" cy="62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020720" y="6093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KD &amp; JF &amp; Ł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6920" y="1565280"/>
            <a:ext cx="7632720" cy="57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187280" y="2255760"/>
            <a:ext cx="6853320" cy="31514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42920" y="3462480"/>
            <a:ext cx="1439640" cy="143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2920" y="1949400"/>
            <a:ext cx="1439640" cy="1440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42920" y="4975200"/>
            <a:ext cx="1439640" cy="1440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2920" y="438120"/>
            <a:ext cx="1439640" cy="1440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72040" y="5829480"/>
            <a:ext cx="31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3333cc"/>
                </a:solidFill>
                <a:uFillTx/>
                <a:latin typeface="Lucida Sans Unicode"/>
              </a:rPr>
              <a:t>www.opportunity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54760" y="64944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Test Turi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32200" y="107316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308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309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4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5"/>
          <a:stretch/>
        </p:blipFill>
        <p:spPr>
          <a:xfrm>
            <a:off x="2268360" y="1700280"/>
            <a:ext cx="5183280" cy="3960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265200" y="5829480"/>
            <a:ext cx="2642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3333cc"/>
                </a:solidFill>
                <a:uFillTx/>
                <a:latin typeface="Lucida Sans Unicode"/>
              </a:rPr>
              <a:t>www.lanierbb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54760" y="64944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Test Turi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32200" y="107316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326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327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2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2124000" y="1638360"/>
            <a:ext cx="5688000" cy="40957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263040" y="5829480"/>
            <a:ext cx="318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3333cc"/>
                </a:solidFill>
                <a:uFillTx/>
                <a:latin typeface="Lucida Sans Unicode"/>
              </a:rPr>
              <a:t>www.peoplehaters.or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54760" y="64944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Test Turi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2200" y="107316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344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345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0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1692360" y="3025800"/>
            <a:ext cx="6983280" cy="16668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3255840" y="582948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3333cc"/>
                </a:solidFill>
                <a:uFillTx/>
                <a:latin typeface="Lucida Sans Unicode"/>
              </a:rPr>
              <a:t>www.wp.p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54760" y="64944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Test Turi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32200" y="107316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56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57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914560" y="649440"/>
            <a:ext cx="32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lan prezenta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60280" y="2230560"/>
            <a:ext cx="378648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Wstę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Test Turing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CAPTCH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Rodzaje testów CAPTCH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Atak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362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363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8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1619280" y="1989000"/>
            <a:ext cx="7056360" cy="33102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274200" y="5829480"/>
            <a:ext cx="166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3333cc"/>
                </a:solidFill>
                <a:uFillTx/>
                <a:latin typeface="Lucida Sans Unicode"/>
              </a:rPr>
              <a:t>sms.idea.p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54760" y="64944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Test Turi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32200" y="107316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380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381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2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6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3" name="" descr=""/>
          <p:cNvPicPr/>
          <p:nvPr/>
        </p:nvPicPr>
        <p:blipFill>
          <a:blip r:embed="rId5"/>
          <a:stretch/>
        </p:blipFill>
        <p:spPr>
          <a:xfrm>
            <a:off x="1692360" y="1968480"/>
            <a:ext cx="6840360" cy="32702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3273480" y="5829480"/>
            <a:ext cx="243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3333cc"/>
                </a:solidFill>
                <a:uFillTx/>
                <a:latin typeface="Lucida Sans Unicode"/>
              </a:rPr>
              <a:t>www.cgm.com.p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54760" y="64944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Test Turi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32200" y="107316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398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399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4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1978200" y="2230560"/>
            <a:ext cx="65545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rojekt służący do odróżniania komputerów od ludz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Ochrona zasobów w siec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543120" y="649440"/>
            <a:ext cx="19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APT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414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415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0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3543120" y="649440"/>
            <a:ext cx="19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APT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78200" y="2230560"/>
            <a:ext cx="604836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CAPTCHA opiera się na trudnych problemach sztucznej inteligencj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Każdy program radzący sobie z CAPTCHĄ poradzi sobie z pewnym nierozwiązanym problemem 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„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win – win” : albo zostanie rozwiązany użyteczny problem SI albo CAPTCHA  będzie bezpiecz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430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431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6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1978200" y="2230560"/>
            <a:ext cx="59943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Completely Automated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W odróżnieniu od klasycznego Testu Turinga Testy CAPTCHA są generowane automatyczn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43120" y="649440"/>
            <a:ext cx="19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Lucida Sans Unicode"/>
              </a:rPr>
              <a:t>CA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T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446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447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2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1978200" y="2230560"/>
            <a:ext cx="64101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Public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Kody źródłowe programu odpytującego są ogólnodostęp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Bezpieczeństwo nie może polegać na tajności danych testowyc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44560" y="649440"/>
            <a:ext cx="19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A</a:t>
            </a:r>
            <a:r>
              <a:rPr b="0" lang="en-US" sz="3200" spc="-1" strike="noStrike">
                <a:solidFill>
                  <a:srgbClr val="3333cc"/>
                </a:solidFill>
                <a:latin typeface="Lucida Sans Unicode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462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463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4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8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978200" y="2230560"/>
            <a:ext cx="4930560" cy="21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…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Turing Test to tell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Test oparty na idei testu Turing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42760" y="649440"/>
            <a:ext cx="19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AP</a:t>
            </a:r>
            <a:r>
              <a:rPr b="0" lang="en-US" sz="3200" spc="-1" strike="noStrike">
                <a:solidFill>
                  <a:srgbClr val="3333cc"/>
                </a:solidFill>
                <a:latin typeface="Lucida Sans Unicode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478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479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0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4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978200" y="2230560"/>
            <a:ext cx="56228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…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Computers and Humans Ap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Istota problemu: co zrobić, by efektywnie odróżniać ludzi od maszy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42760" y="649440"/>
            <a:ext cx="19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APT</a:t>
            </a:r>
            <a:r>
              <a:rPr b="0" lang="en-US" sz="3200" spc="-1" strike="noStrike">
                <a:solidFill>
                  <a:srgbClr val="3333cc"/>
                </a:solidFill>
                <a:latin typeface="Lucida Sans Unicode"/>
              </a:rPr>
              <a:t>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494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495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0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2154240" y="64944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APTCHA a krypt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78200" y="2230560"/>
            <a:ext cx="66261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tak jak kryptografia pomogła rozwinąć faktoryzację, tak CAPTCHA może pomóc w rozwoju 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kryptografia: przeciwnik nie potrafi efektywnie rozkładać liczb 1024 bitowych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APTCHA: nie potrafi rozwiązywać problemów SI lepiej niż znanymi ogólnie metodami (nieefektywnym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510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511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6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2154240" y="64944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APTCHA a krypt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78200" y="2230560"/>
            <a:ext cx="5832360" cy="21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Tradycyjna kryptografia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złożoność obliczeniow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CAPTCHA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brak wyobraźni u maszy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brak skalowalnośc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72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73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977840" y="2230200"/>
            <a:ext cx="374148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Alan Tu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Gra Imitacj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Test Turing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Zastosowa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Przykła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77000" y="64944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Zarys wstę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526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527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8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2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979640" y="2230560"/>
            <a:ext cx="49687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Projekt CAPTCHA w 2000 roku stworzyl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Luis von Ah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Manuel Bl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Nicholas J. Hopp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Z Carnegie Mellon Univers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ora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John Langford z I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8"/>
          <a:stretch/>
        </p:blipFill>
        <p:spPr>
          <a:xfrm>
            <a:off x="6804000" y="5445000"/>
            <a:ext cx="1047600" cy="495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9"/>
          <a:stretch/>
        </p:blipFill>
        <p:spPr>
          <a:xfrm>
            <a:off x="6588000" y="2852640"/>
            <a:ext cx="1447920" cy="14382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875040" y="658800"/>
            <a:ext cx="15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wór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544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545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0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6372360" y="4292640"/>
            <a:ext cx="2209680" cy="41904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1978200" y="2230560"/>
            <a:ext cx="60116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plaga masowego rejestrowania się w serwisach oferujących darmowe konta pocztowe przez boty wysyłające tony spa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ten sam problem dotyczy list dyskusyjnych, czatów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56360" y="649440"/>
            <a:ext cx="412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zyczyny powst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561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562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3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7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2105280" y="2230560"/>
            <a:ext cx="61747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ndeksowanie stron przez boty wyszukiware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właściciele niektórych stron nie chcą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by były one indeksowa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556360" y="649440"/>
            <a:ext cx="412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zyczyny powst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577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578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9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3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2111040" y="2230560"/>
            <a:ext cx="51566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Ochrona poczty przed spame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aby wysłać list, trzeba rozwiązać „tes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3333cc"/>
                </a:solidFill>
                <a:uFillTx/>
                <a:latin typeface="Lucida Sans Unicode"/>
              </a:rPr>
              <a:t>www.spamarrest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56360" y="649440"/>
            <a:ext cx="412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zyczyny powst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593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594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5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9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1978200" y="2230560"/>
            <a:ext cx="575928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A tak naprawdę twórcom z Carnegie chodziło o przegrane głosowanie w ankiecie na najlepszy wydział informatyczny z MITem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56360" y="649440"/>
            <a:ext cx="412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zyczyny powst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609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610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1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5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2038320" y="2230560"/>
            <a:ext cx="2500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GIMP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BONG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PI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Voice CAPTCH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237760" y="6476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odzaje testów CAPT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625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626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7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1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1978200" y="2230560"/>
            <a:ext cx="633888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ześć losowo wybranych słów, z których użytkownik musi odgadnąć trz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utomatyczny dobór słó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Rozmywanie i zniekształcan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37760" y="6476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odzaje testów CAPT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8"/>
          <a:stretch/>
        </p:blipFill>
        <p:spPr>
          <a:xfrm>
            <a:off x="3132000" y="1197000"/>
            <a:ext cx="2876760" cy="1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642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643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4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8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5" name="" descr=""/>
          <p:cNvPicPr/>
          <p:nvPr/>
        </p:nvPicPr>
        <p:blipFill>
          <a:blip r:embed="rId5"/>
          <a:stretch/>
        </p:blipFill>
        <p:spPr>
          <a:xfrm>
            <a:off x="1692360" y="1700280"/>
            <a:ext cx="4083120" cy="226692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6"/>
          <a:stretch/>
        </p:blipFill>
        <p:spPr>
          <a:xfrm>
            <a:off x="4500720" y="2997360"/>
            <a:ext cx="4081320" cy="226692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7"/>
          <a:stretch/>
        </p:blipFill>
        <p:spPr>
          <a:xfrm>
            <a:off x="1692360" y="4221000"/>
            <a:ext cx="4081320" cy="22672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2237760" y="6476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odzaje testów CAPT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8"/>
          <a:stretch/>
        </p:blipFill>
        <p:spPr>
          <a:xfrm>
            <a:off x="3132000" y="1197000"/>
            <a:ext cx="2876760" cy="1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661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662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7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2126520" y="2230560"/>
            <a:ext cx="55054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Rozpoznawanie kształtów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ane dwie grupy figur –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o której z nich  pasuje podany wzorzec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237760" y="6476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odzaje testów CAPT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5"/>
          <a:stretch/>
        </p:blipFill>
        <p:spPr>
          <a:xfrm>
            <a:off x="3130560" y="1197000"/>
            <a:ext cx="286848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678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679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4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1" name="" descr=""/>
          <p:cNvPicPr/>
          <p:nvPr/>
        </p:nvPicPr>
        <p:blipFill>
          <a:blip r:embed="rId5"/>
          <a:stretch/>
        </p:blipFill>
        <p:spPr>
          <a:xfrm>
            <a:off x="2843280" y="1989000"/>
            <a:ext cx="4138560" cy="341172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2237760" y="6476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odzaje testów CAPT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6"/>
          <a:stretch/>
        </p:blipFill>
        <p:spPr>
          <a:xfrm>
            <a:off x="3130560" y="1197000"/>
            <a:ext cx="286848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88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89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979640" y="2230200"/>
            <a:ext cx="575784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1912-195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matematy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log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kryptolo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jeden z twórców informatyk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92920" y="649440"/>
            <a:ext cx="42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Alan Mathison Tu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695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696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7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1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1978200" y="2230560"/>
            <a:ext cx="66211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ane cztery obrazy – wybrać z listy słowo łączące je wszystk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tała baza obrazów; dla utrudnienia ataku – dodawane szumy i rozmy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37760" y="6476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odzaje testów CAPT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8"/>
          <a:stretch/>
        </p:blipFill>
        <p:spPr>
          <a:xfrm>
            <a:off x="3137040" y="1187280"/>
            <a:ext cx="2873160" cy="1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712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713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4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8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2124000" y="1773360"/>
            <a:ext cx="4896000" cy="4464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5"/>
          <a:stretch/>
        </p:blipFill>
        <p:spPr>
          <a:xfrm>
            <a:off x="2627280" y="1989000"/>
            <a:ext cx="1270080" cy="198144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6"/>
          <a:stretch/>
        </p:blipFill>
        <p:spPr>
          <a:xfrm>
            <a:off x="5003640" y="2421000"/>
            <a:ext cx="1440000" cy="104292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7"/>
          <a:stretch/>
        </p:blipFill>
        <p:spPr>
          <a:xfrm>
            <a:off x="2411280" y="4221000"/>
            <a:ext cx="1714680" cy="180036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8"/>
          <a:stretch/>
        </p:blipFill>
        <p:spPr>
          <a:xfrm>
            <a:off x="5003640" y="4149720"/>
            <a:ext cx="1582920" cy="149544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2237760" y="6476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odzaje testów CAPT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9"/>
          <a:stretch/>
        </p:blipFill>
        <p:spPr>
          <a:xfrm>
            <a:off x="3137040" y="1187280"/>
            <a:ext cx="2873160" cy="1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733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734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5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9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2124000" y="1773360"/>
            <a:ext cx="4896000" cy="4464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5"/>
          <a:stretch/>
        </p:blipFill>
        <p:spPr>
          <a:xfrm>
            <a:off x="2484360" y="2276640"/>
            <a:ext cx="1244520" cy="153648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6"/>
          <a:stretch/>
        </p:blipFill>
        <p:spPr>
          <a:xfrm>
            <a:off x="4500720" y="1844640"/>
            <a:ext cx="2286000" cy="21463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7"/>
          <a:stretch/>
        </p:blipFill>
        <p:spPr>
          <a:xfrm>
            <a:off x="4427640" y="4221000"/>
            <a:ext cx="2095560" cy="16002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8"/>
          <a:stretch/>
        </p:blipFill>
        <p:spPr>
          <a:xfrm>
            <a:off x="2484360" y="4508640"/>
            <a:ext cx="1244520" cy="119376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2237760" y="6476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odzaje testów CAPT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9"/>
          <a:stretch/>
        </p:blipFill>
        <p:spPr>
          <a:xfrm>
            <a:off x="3137040" y="1187280"/>
            <a:ext cx="2873160" cy="1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754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755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0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1978200" y="2230560"/>
            <a:ext cx="643068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utomatyczny wybór losowego słowa lub ciągu licz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wygenerowanie przez syntezator mowy odpowiednich dźwiękó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odane szum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37760" y="6476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odzaje testów CAPT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8"/>
          <a:stretch/>
        </p:blipFill>
        <p:spPr>
          <a:xfrm>
            <a:off x="3132000" y="1197000"/>
            <a:ext cx="2868840" cy="1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771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772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3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7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3807720" y="64764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AT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978200" y="2230560"/>
            <a:ext cx="62658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Odmiana CAPT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Na podstawie dwóch rysunków powiedzieć czy jeden jest przekształceniem drugie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787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788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9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3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484360" y="2133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978200" y="2230560"/>
            <a:ext cx="64101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utrudnienie dla ludzi niepełnosprawnych: niedowidzących lub niedosłyszący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CAPTCHA oparta na rozumieniu tekstu i skojarzenia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998000" y="649440"/>
            <a:ext cx="54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graniczenia i perspektyw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804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805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6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0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1978200" y="2230560"/>
            <a:ext cx="62989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Uniwersytet w Berkeley: Greg Mori i Jitendra Mal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atak na wizualny test CAPTCH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92 % skuteczności dla testu EZ-GIMPY stosowanego na Yaho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8"/>
          <a:stretch/>
        </p:blipFill>
        <p:spPr>
          <a:xfrm>
            <a:off x="2771640" y="5013360"/>
            <a:ext cx="3683160" cy="101592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2158560" y="649440"/>
            <a:ext cx="51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Bezpieczeństwo CAPT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821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822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3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27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635280" y="112536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zczegół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978200" y="2230560"/>
            <a:ext cx="662616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rozpoznanie i wyodrębnienie potencjalnych pojedynczych liter (porównanie zbiorów punktów na rysunku do wzorcó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zbudowanie grafu DAG możliwych połączeń liter w słow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prawdzenie które ze ścieżek z grafu reprezentują słowa występujące w słowni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158560" y="649440"/>
            <a:ext cx="51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Bezpieczeństwo CAPT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838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839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0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44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1" name="" descr=""/>
          <p:cNvPicPr/>
          <p:nvPr/>
        </p:nvPicPr>
        <p:blipFill>
          <a:blip r:embed="rId5"/>
          <a:stretch/>
        </p:blipFill>
        <p:spPr>
          <a:xfrm>
            <a:off x="2124000" y="2060640"/>
            <a:ext cx="5488200" cy="363852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2158560" y="649440"/>
            <a:ext cx="51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Bezpieczeństwo CAPT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854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855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6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0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2234520" y="1125360"/>
            <a:ext cx="429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nienaukowe metody łamania ;-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978200" y="2230560"/>
            <a:ext cx="64814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uzyskanie rozwiązania CAPTCHY od niczego nieświadomych użytkowników Internetu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użytkownik w zamian za rozwiązanie krótkiego testu CAPTCHA uzyskuje dostęp do zasobów stron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rozwiązany test jest wykorzystywany przez autorów strony do niecnych celó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158560" y="649440"/>
            <a:ext cx="51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Bezpieczeństwo CAPT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104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105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979280" y="2230200"/>
            <a:ext cx="5977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1936: „On Computable Numbers, with an Application to the Entscheidungsproblem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Koncepcja Maszyny Turing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Problem stopu i formuł pierwszego rzęd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92920" y="649440"/>
            <a:ext cx="42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Alan Mathison Tu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4200" y="1127160"/>
            <a:ext cx="122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życior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"/>
          <p:cNvGrpSpPr/>
          <p:nvPr/>
        </p:nvGrpSpPr>
        <p:grpSpPr>
          <a:xfrm>
            <a:off x="826920" y="260280"/>
            <a:ext cx="7992360" cy="6336720"/>
            <a:chOff x="826920" y="260280"/>
            <a:chExt cx="7992360" cy="6336720"/>
          </a:xfrm>
        </p:grpSpPr>
        <p:sp>
          <p:nvSpPr>
            <p:cNvPr id="871" name=""/>
            <p:cNvSpPr/>
            <p:nvPr/>
          </p:nvSpPr>
          <p:spPr>
            <a:xfrm>
              <a:off x="898920" y="332280"/>
              <a:ext cx="7774920" cy="619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873" name=""/>
              <p:cNvSpPr/>
              <p:nvPr/>
            </p:nvSpPr>
            <p:spPr>
              <a:xfrm>
                <a:off x="4604400" y="3463920"/>
                <a:ext cx="4141440" cy="3133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26920" y="260280"/>
                <a:ext cx="7992360" cy="3203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26920" y="3463920"/>
                <a:ext cx="3777480" cy="31330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6" name=""/>
          <p:cNvSpPr/>
          <p:nvPr/>
        </p:nvSpPr>
        <p:spPr>
          <a:xfrm>
            <a:off x="898560" y="316080"/>
            <a:ext cx="7788240" cy="62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020720" y="6093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KD &amp; JF &amp; Ł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2920" y="3462480"/>
            <a:ext cx="1439640" cy="1439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2920" y="1949400"/>
            <a:ext cx="1439640" cy="1440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42920" y="4975200"/>
            <a:ext cx="1439640" cy="1440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42920" y="438120"/>
            <a:ext cx="1439640" cy="1440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701800" y="2997360"/>
            <a:ext cx="42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sołych świąt!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121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122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978200" y="2230200"/>
            <a:ext cx="633384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II wojna światowa: prace nad złamaniem Enigm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1950: „Computing machinery and intelligenc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1952: symulacja komputera grającego w sza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92920" y="649440"/>
            <a:ext cx="42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Alan Mathison Tu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14200" y="1127160"/>
            <a:ext cx="122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życior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138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139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978200" y="2801520"/>
            <a:ext cx="633384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1952: skazany za homoseksualiz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„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Leczenie” hormonal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1954: samobójstw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92920" y="649440"/>
            <a:ext cx="42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Alan Mathison Tu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14200" y="1127160"/>
            <a:ext cx="122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życior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155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156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1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977840" y="2230560"/>
            <a:ext cx="640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Artykuł z 1950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„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Computing machinery and intelligenc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Definicja sztucznej inteligencj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Komputery będą w stanie dorównać inteligencją ludzi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„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Gra Imitacji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54760" y="64944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Test Turi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42920" y="260280"/>
            <a:ext cx="8676360" cy="6336720"/>
            <a:chOff x="142920" y="260280"/>
            <a:chExt cx="8676360" cy="6336720"/>
          </a:xfrm>
        </p:grpSpPr>
        <p:grpSp>
          <p:nvGrpSpPr>
            <p:cNvPr id="171" name=""/>
            <p:cNvGrpSpPr/>
            <p:nvPr/>
          </p:nvGrpSpPr>
          <p:grpSpPr>
            <a:xfrm>
              <a:off x="826920" y="260280"/>
              <a:ext cx="7992360" cy="6336720"/>
              <a:chOff x="826920" y="260280"/>
              <a:chExt cx="7992360" cy="6336720"/>
            </a:xfrm>
          </p:grpSpPr>
          <p:sp>
            <p:nvSpPr>
              <p:cNvPr id="172" name=""/>
              <p:cNvSpPr/>
              <p:nvPr/>
            </p:nvSpPr>
            <p:spPr>
              <a:xfrm>
                <a:off x="898920" y="332280"/>
                <a:ext cx="7774920" cy="619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826920" y="260280"/>
                <a:ext cx="7992360" cy="6336720"/>
                <a:chOff x="826920" y="260280"/>
                <a:chExt cx="7992360" cy="6336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604400" y="3463920"/>
                  <a:ext cx="4141440" cy="313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26920" y="260280"/>
                  <a:ext cx="7992360" cy="320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26920" y="3463920"/>
                  <a:ext cx="3777480" cy="313308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898560" y="316080"/>
              <a:ext cx="7788240" cy="62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20720" y="6093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Arial"/>
                </a:rPr>
                <a:t>KD &amp; JF &amp; Ł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26920" y="1565280"/>
              <a:ext cx="7632720" cy="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2920" y="3462480"/>
              <a:ext cx="1439640" cy="143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2920" y="1949400"/>
              <a:ext cx="1439640" cy="1440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2920" y="4975200"/>
              <a:ext cx="143964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2920" y="438120"/>
              <a:ext cx="1439640" cy="1440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978200" y="2230560"/>
            <a:ext cx="654984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Komputer, człowiek i przesłuchują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ytania i odpowiedzi w postaci tekst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rzesłuchujący stara się zgadnąć, który z rozmówców jest komputer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Komputer próbuje „oszukać” przesłuchujące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56520" y="1125360"/>
            <a:ext cx="16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Gra Imitacj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54760" y="64944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Test Turi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21:04:30Z</dcterms:created>
  <dc:creator>Użytkownik XP</dc:creator>
  <dc:description/>
  <dc:language>en-US</dc:language>
  <cp:lastModifiedBy>Jędrek</cp:lastModifiedBy>
  <dcterms:modified xsi:type="dcterms:W3CDTF">2005-03-23T14:10:48Z</dcterms:modified>
  <cp:revision>11</cp:revision>
  <dc:subject/>
  <dc:title>Prezentacja programu PowerPoint</dc:title>
</cp:coreProperties>
</file>