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l-P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l-P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l-P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325A5B-5BA6-4083-B07A-8BA3696A7CCF}" type="slidenum">
              <a:rPr b="0" lang="pl-P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zedmiotem prezentacji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o nie jest czesc kryptograf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A: „mroczna strona kryptografii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wno dawno temu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słaniec był rozpoznawalny, tj. wiadomo było, że coś niesie. Trzeba mu było więc dać do ręki coś nic nie znaczącego, a prawdziwą wiadomość ukry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iny – władca chiński wkłada posłańcom kulki z wosk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stiaeus: przebywając w niewoli u Dariusza (Alexander!) wysyła do szwagra wiadomość z prośbą o pomoc – tatuaż na głowie niewolnika z czekaniem aż włosy odrosn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k z cytryny, mleko, mocz – ciemnieja pod wplywem ciep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ltrafiolet – przeciwzlodziejskie (znakowanie przedmiotów) i maturalne (ściąg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OID – ultrafiolet tylko przy jasnym świetle z fotokopiar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ioly - Kodowanie uzywajace wzorcow w okreslonych slow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litw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łowa są tak dobrane, żeby wyszła porządna modlitwa po ła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ioly - Kodowanie uzywajace wzorcow w okreslonych slow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litw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łowa są tak dobrane, żeby wyszła porządna modlitwa po ła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tu jest napis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dowanie wiadomosci w tekscie – za chw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 mikrofilmach – niemieccy specjalisci opracowali metode zmniejszania zdjec do wielkosci kropki – taka kropke naklejano na tekst, strone w gaziecie itd. Po czym przenoszono w ten sposób. Amerykanie doszli do tego dopiero, kiedy jakiś podwójny agent przesłał im wiadomość „watch out for the dots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raniczenia prawne za chwil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to j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ór do szydełkowania :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zyszedł czas na jakieś konkr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dzyzdaniowa – jedna spacja pomiedzy kropka a nastepnym zdaniem = 0, dwie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d itp. automatycznie poprawia zbyt duze odste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zyszedł czas na jakieś konkr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dzyzdaniowa – jedna spacja pomiedzy kropka a nastepnym zdaniem = 0, dwie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d itp. automatycznie poprawia zbyt duze odste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zyszedł czas na jakieś konkr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dzyzdaniowa – jedna spacja pomiedzy kropka a nastepnym zdaniem = 0, dwie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d itp. automatycznie poprawia zbyt duze odste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olne miejsca zaszyfrują 1 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2 b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– 3 b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wolne miejsca zaszyfrują 1 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– 2 b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– 3 b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wykle czytniki ASCII w ogole nie wyswietlaja spacji, wiec na pierwsyz rzut oka nie widac roznic (ale przeicez wystarczy zaznaczyc teks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zeformatowanie psuje takie metody tekstow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ta metoda użycia odpowiednich słów. Przekazujemy jedną literę na słowo, a nie jeden/kilka bitów na zdan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yfrowanie ma jedna podstawowa wadę – po przechwyceniu wiadomości przeciwnik widzi, ze cos jest zaszyfrow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 pierwsze -&gt; może wziąć się za deszyfrowanie i może mu się udać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 drugie -&gt; Czasem sam fakt przesłania informacji coś znac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y dwa piksele nie zostały usrednione, żeby w jednym cos wiecej przechow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y liczba kolorow jest standardowa, czy np. rozni się o kilka od jakiegos standard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y nie jest tak, ze wszystkie obrazki na stronie www są w jpg, a jeden jest w bm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tat za prezentacją dla szeregowych agentów FBI dot. steganografii i metod walki z ni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gramów bardzo popularnych ‘w branz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ryty tek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półczesny opis „co to j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335-928C-422C-9593-5C1F1D21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F8B-7F58-4454-A2EC-3933AA19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F46-486B-47E4-A3E9-FA66CF96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A0E-B612-4F2E-9B46-1F571493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F6EC-4991-4AB3-84B6-6C387637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1F0A-71B1-44B1-BE42-E900A090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1F86-C744-4437-9B5D-7C327C26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D0F2-71E7-4CB0-8F32-B2E504DE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9836-81B2-4B39-9268-00C39CD7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4185-F3A0-4598-98CE-5AD127A4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1964-AC49-4847-966C-3309D312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3BF-B3BA-4DA0-BA89-3CAC6D9D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B572-9AAE-4C69-A5E3-AEF9BC5B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446D-CD38-419A-9AD9-70CF7D94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51BC-5DAF-4FA3-A733-D435C8FC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C298-7C95-47C7-9068-5EA1ACB4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9C61-4B6A-4686-8329-C22D9EDA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80D-F6E2-49FF-B63A-EDA2255C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563-CBC1-4A44-92B2-CAF0EDFB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BE1-71FB-4290-AEC5-9EBD2535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BE5-1AC4-4487-BE77-C594B375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F25-F3A2-4CFF-8202-BCE8242F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D76-2188-471D-83F6-A3661DBA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506-2557-44F1-80CC-58A8CEF4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DD22-9970-46CA-98D0-EAB0ECECE4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99EC-1691-431C-8BEF-7CB5DB0B28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jjtc.com/Steganography/toolmatrix.htm" TargetMode="External"/><Relationship Id="rId3" Type="http://schemas.openxmlformats.org/officeDocument/2006/relationships/hyperlink" Target="http://www.jjtc.com/Steganography/toolmatrix.htm" TargetMode="External"/><Relationship Id="rId4" Type="http://schemas.openxmlformats.org/officeDocument/2006/relationships/hyperlink" Target="http://www.jjtc.com/Steganography/toolmatrix.htm" TargetMode="External"/><Relationship Id="rId5" Type="http://schemas.openxmlformats.org/officeDocument/2006/relationships/image" Target="../media/image5.png"/><Relationship Id="rId6" Type="http://schemas.openxmlformats.org/officeDocument/2006/relationships/hyperlink" Target="http://neworder.box.sk/user.php?name=Ka0ticSH" TargetMode="External"/><Relationship Id="rId7" Type="http://schemas.openxmlformats.org/officeDocument/2006/relationships/hyperlink" Target="http://www.phrack.org/show.php?p=49" TargetMode="External"/><Relationship Id="rId8" Type="http://schemas.openxmlformats.org/officeDocument/2006/relationships/hyperlink" Target="http://www.phrack.org/show.php?p=49" TargetMode="External"/><Relationship Id="rId9" Type="http://schemas.openxmlformats.org/officeDocument/2006/relationships/hyperlink" Target="http://www.networkpenetration.com/protocol_steg.html" TargetMode="External"/><Relationship Id="rId10" Type="http://schemas.openxmlformats.org/officeDocument/2006/relationships/hyperlink" Target="http://www.networkpenetration.com/protocol_steg.html" TargetMode="External"/><Relationship Id="rId11" Type="http://schemas.openxmlformats.org/officeDocument/2006/relationships/hyperlink" Target="http://www.networkpenetration.com/protocol_steg.html" TargetMode="External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44863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Arial"/>
              </a:rPr>
              <a:t>Steganograf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4962600" cy="3670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9640" y="5805360"/>
            <a:ext cx="269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iotr Tursk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nisław Witkowsk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ys historyczny - początk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zystkie wiadomości były przekazywane przez jednego (zazwyczaj) posłań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wa sposoby na ukryte przekazanie informacji – Posłaniec niesie w ręku wiadomość fałszywą (przykrywkę), podczas gdy prawdziw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mię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a gdzieś ukryt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ykład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hi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iaeus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z Mile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ys historyczny c.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stępny krok – atramenty sympatycz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kie? Sok z cytryny, mleko, mocz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ogeum: I i początki II Wojny Światowe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spółcześnie: ultrafiolet, kopie dokumentów (VO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 z kopiowani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zy kopiowaniu przez osobę nieświadomą ukrytej w dokumencie prawdziwej treści, była ona bezpowrotnie trac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ys historyczny c.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ohannes Trithemius: Steganographia, ok. 1500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dowani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mionami aniołów w spis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padiel aporsy mesarpon omeuas peludyn malpreax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ys historyczny c.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ohannes Trithemius: Steganographia, ok. 1500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dowani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mionami aniołów w spis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padiel aporsy mesarpon omeuas peludyn malpreax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padiel a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Courier New"/>
              </a:rPr>
              <a:t>p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o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Courier New"/>
              </a:rPr>
              <a:t>r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Courier New"/>
              </a:rPr>
              <a:t>y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 mesarpon o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Courier New"/>
              </a:rPr>
              <a:t>m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e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Courier New"/>
              </a:rPr>
              <a:t>u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Courier New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 peludyn m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Courier New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Courier New"/>
              </a:rPr>
              <a:t>p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r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Courier New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Courier New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p r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y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m u s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a p e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prymus ap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łowami modlitw (szyfr „Ave Maria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siążka tabel litera – słow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ażde słowo w modlitwie to słowo z kolejnej tabeli – odczytujemy jaką literę ono oznac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Łamigłówka ;-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181440" y="606240"/>
            <a:ext cx="932508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ar Business person ; We know you are interested in receiving amazing info ! This is a one time mailing there is no need to request removal if you won't want any more ! This mail is being sent in compliance with Senate bill 2716 , Title 5 , Section 306 . This is not a get rich scheme . Why work for somebody else when you can become rich in 94 WEEKS . Have you ever noticed most everyone has a cellphone and how many people you know are on the Internet ! Well, now is your chance to capitalize on this ! WE will help YOU sell more &amp; increase customer response by 160% . The best thing about our system is that it is absolutely risk free for you ! But don't believe us ! Mr Ames of Illinois tried us and says "My only problem now is where to park all my cars" . This offer is 100% legal . We BESEECH you - act now ! Sign up a friend and you get half off . Thank-you for your serious consideration of our offer . Dear Colleague ; You made the right decision when you signed up for our mailing list . If you are not interested in our publications and wish to be removed from our lists, simply do NOT respond and ignore this mail . This mail is being sent in compliance with Senate bill 1625 ; Title 4 ; Section 304 ! This is not multi-level marketing ! Why work for somebody else when you can become rich in 29 DAYS . Have you ever noticed people love convenience plus most everyone has a cellphone . Well, now is your chance to capitalize on this . We will help you deliver goods right to the customer's doorstep &amp; turn your business into an E-BUSINESS . The best thing about our system is that it is absolutely risk free for you ! But don't believe us . Ms Anderson of Hawaii tried us and says "I was skeptical but it worked for me" ! We are licensed to operate in all states ! We BESEECH you - act now ! Sign up a friend and you get half off !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God Bless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związanie łamigłówk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Umowocześniony pomysł mnicha sprzed dwóch slajdów – zamiast słów modlitw użyto słów ze sp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pamMimic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ały poprzedni ekran to wynik zakodowan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taka sobie wiadomosc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ys historyczny c.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I Wojna Światow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dowanie wiadomości w samym tekśc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dowanie wiadomości w mikrofilmach umieszczanych na tekśc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Watch out for the do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ots and lots of little dots.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 po 1945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uż w trakcie wojny metody z atramentem sympatycznym okazały się zbyt mało efektyw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trach przed powszechnym i praktycznie niewykrywalnym używaniem steganografii w trakcie i po wojnie był tak wielki, że obie strony żelaznej kurtyny wprowadziły liczne ograniczenia praw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asowo kontrolowano nie tylko zawartość międzynarodowej korespondencji, ale również sposób zapisania adresu na kopercie oraz nawet rodzaj i sposób przyklejenia znacz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Łamigłówka :-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3640" y="1314000"/>
            <a:ext cx="4043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CO 25 s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 to end; end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 to end; end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 across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p across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 across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0, k3, p10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9, p3, k9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0, k3, p10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9, p3, k9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4, k15, p4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3, p15, k3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4, k15, p4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3, p15, k3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5, k13, p5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4, p13, k4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5, k13, p5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4, p13, k4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6, k11, p6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5, p11, k5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6, k11, p6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06120" y="1317600"/>
            <a:ext cx="3070080" cy="56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1, p6, k11, p6, k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7, k9, p7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6, p9, k6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7, k9, p7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6, p9, k6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8, k7, p8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7, p7, k7; end,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8, k7, p8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7, p7, k7; end,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9, k5, p9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8, p5, k8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9, k5, p9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8, p5, k8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0, k3, p10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9, p3, k9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1, k1, p1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10, p1, k10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p across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k across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, p across; end p1,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 to end; end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1, p1 to end; end k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związanie łamigłówk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1389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 czym będzie mow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tę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kąd tak głośno o steganografi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rótki ;-) rys historycz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etody prehistorycz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etody tekst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etody elektronicz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etody komputer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tegoanali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naki wod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dsumowa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 po 1945? c.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zykładowe przepisy w US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kaz prowadzenia korespondencyjnych międzynarodowych partii szachowych (przesyłanie kolejnych ruchów na szachowni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kaz przesyłania instrukcji szydełkowania, haftowania, robienia na drut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kaz przesyłania wycinków gazet, dziecięcych rysunk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łkowity zakaz międzynarodowych zamówień na kwia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 po 1945? c.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miecka metoda z kropkami upowszechniła si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 czasem zaczęto stosować mikroprzesunięcia w wydruk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Rozdzielczość drukarki pozwalała na kontrolę wydruku następnej litery nawet do 1/300 c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akie kodowanie pozostawało czytelne nawet po wielokrotnym faksowaniu i powielani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ody tekstow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a międzyzdaniow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6d1ec"/>
                </a:solidFill>
                <a:latin typeface="Courier New"/>
              </a:rPr>
              <a:t>Cześć! To jest tylko przykład. Kodujemy sob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6d1ec"/>
                </a:solidFill>
                <a:latin typeface="Courier New"/>
              </a:rPr>
              <a:t>raptem parę bitów. I co? I potrzebujemy 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6d1ec"/>
                </a:solidFill>
                <a:latin typeface="Courier New"/>
              </a:rPr>
              <a:t>tego aż tylu zdań. Niepraktycz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ody tekstow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a międzyzdaniow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6d1ec"/>
                </a:solidFill>
                <a:latin typeface="Courier New"/>
              </a:rPr>
              <a:t>Cześć! To jest tylko przykład. Kodujemy sob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Cześć!  To jest tylko przykład. Kodujemy sob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6d1ec"/>
                </a:solidFill>
                <a:latin typeface="Courier New"/>
              </a:rPr>
              <a:t>raptem parę bitów. I co? I potrzebujemy 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raptem parę bitów. I co?  I potrzebujemy 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6d1ec"/>
                </a:solidFill>
                <a:latin typeface="Courier New"/>
              </a:rPr>
              <a:t>tego aż tylu zdań. Niepraktycz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tego aż tylu zdań.  Niepraktycz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ody tekstowe c.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a międzyzdaniow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6d1ec"/>
                </a:solidFill>
                <a:latin typeface="Courier New"/>
              </a:rPr>
              <a:t>Cześć! To jest tylko przykład. Kodujemy sob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Cześć!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ourier New"/>
              </a:rPr>
              <a:t> 1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To jest tylko przykład.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Kodujemy sob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6d1ec"/>
                </a:solidFill>
                <a:latin typeface="Courier New"/>
              </a:rPr>
              <a:t>raptem parę bitów. I co? I potrzebujemy 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raptem parę bitów.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I co?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ourier New"/>
              </a:rPr>
              <a:t> 1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I potrzebujemy 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6d1ec"/>
                </a:solidFill>
                <a:latin typeface="Courier New"/>
              </a:rPr>
              <a:t>tego aż tylu zdań. Niepraktycz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tego aż tylu zdań.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ourier New"/>
              </a:rPr>
              <a:t> 1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Niepraktycz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Courier New"/>
              </a:rPr>
              <a:t>1001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ody tekstow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a końca linij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Przykładowa pierwsza linijk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I druga linijka – też dług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Ostatnia, krótsz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ody tekstow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oda końca linij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Przykładowa pierwsza linijk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Courier New"/>
              </a:rPr>
              <a:t>Przykładowa pierwsza linijka.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__ </a:t>
            </a:r>
            <a:r>
              <a:rPr b="0" lang="en-US" sz="2200" spc="-1" strike="noStrike">
                <a:solidFill>
                  <a:srgbClr val="ff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I druga linijka – też dług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Courier New"/>
              </a:rPr>
              <a:t>I druga linijka – też długa._____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Ostatnia, krótsz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34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Courier New"/>
              </a:rPr>
              <a:t>Ostatnia, krótsza._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0 spacji = 000, 1 = 001, 2 = 010, 3 = 011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4 = 100, 5 = 101, 6 = 110, 7 = 11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ody tekstowe c.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fter the theater, all clients kee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tab down at Wesley’s No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ody tekstowe c.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fter the theater, all clients kee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ter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he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heater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l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ients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e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pl-P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0" lang="pl-PL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1" lang="pl-PL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pl-PL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tab down at Wesley’s No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b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own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sley’s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o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0" lang="pl-PL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pl-P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W</a:t>
            </a:r>
            <a:r>
              <a:rPr b="0" lang="pl-PL" sz="2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ATTACK AT DA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ody tekstowe c.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oda syntaktycz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ektóre zbiory słów brzmią dobrze w każdej kolejnośc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y (imion, zakupów, marek towarów it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żda możliwa kombinacja słów oznacza jedną kombinację bitó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„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rogi mężu, kup drożdże, cukier, mąkę i ogórki”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..              drożdże, cukier, ogórki i mąkę”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..              drożdże, mąkę, cukier i ogórki”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..              ...                            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kąd wziął się pomysł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zemu po prostu nie szyfrowa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 robi przeciwnik, kiedy przechwyci wiadomoś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k rozwiązać ten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ody komputerow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5676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Least Significant B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dujemy 101101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5105520" cy="1490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981080" y="4343400"/>
            <a:ext cx="510552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kala szaroś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dowanie 256 odcieni. Ludzkie oko rozróżnia ok.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rue Co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rażliwość ludzkiego oka: R:G:B = 3:6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(najbardziej wrażliwe na zmiany zielen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ixel RGB = 00011010; 01010101; 00011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dujemy: 01000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nik: 000110</a:t>
            </a:r>
            <a:r>
              <a:rPr b="1" lang="pl-PL" sz="2400" spc="-1" strike="noStrike" u="sng">
                <a:solidFill>
                  <a:srgbClr val="ff0000"/>
                </a:solidFill>
                <a:uFillTx/>
                <a:latin typeface="Arial"/>
              </a:rPr>
              <a:t>01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; 0101010</a:t>
            </a:r>
            <a:r>
              <a:rPr b="1" lang="pl-PL" sz="2400" spc="-1" strike="noStrike" u="sng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; 000</a:t>
            </a:r>
            <a:r>
              <a:rPr b="1" lang="pl-PL" sz="2400" spc="-1" strike="noStrike" u="sng">
                <a:solidFill>
                  <a:srgbClr val="ff0000"/>
                </a:solidFill>
                <a:uFillTx/>
                <a:latin typeface="Arial"/>
              </a:rPr>
              <a:t>00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eta koloró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ta kolor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ra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09480" y="2362320"/>
          <a:ext cx="2819520" cy="2361960"/>
        </p:xfrm>
        <a:graphic>
          <a:graphicData uri="http://schemas.openxmlformats.org/drawingml/2006/table">
            <a:tbl>
              <a:tblPr/>
              <a:tblGrid>
                <a:gridCol w="704880"/>
                <a:gridCol w="704880"/>
                <a:gridCol w="704880"/>
                <a:gridCol w="704880"/>
              </a:tblGrid>
              <a:tr h="78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114800" y="2286000"/>
          <a:ext cx="3809880" cy="3200400"/>
        </p:xfrm>
        <a:graphic>
          <a:graphicData uri="http://schemas.openxmlformats.org/drawingml/2006/table">
            <a:tbl>
              <a:tblPr/>
              <a:tblGrid>
                <a:gridCol w="457200"/>
                <a:gridCol w="1143000"/>
                <a:gridCol w="1066680"/>
                <a:gridCol w="1143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514600" y="3581280"/>
            <a:ext cx="1523880" cy="53352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eta koloró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Redukcja pal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133720" y="2438280"/>
          <a:ext cx="914400" cy="279396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715000" y="2362320"/>
          <a:ext cx="914400" cy="28699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3505320" y="3733920"/>
            <a:ext cx="1676160" cy="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eta koloró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Powielenie pal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715000" y="2438280"/>
          <a:ext cx="914400" cy="279396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’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’’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057400" y="2438280"/>
          <a:ext cx="914400" cy="28702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3505320" y="3733920"/>
            <a:ext cx="1676160" cy="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eta koloró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Właściwe kodowa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ra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715000" y="2438280"/>
          <a:ext cx="914400" cy="279396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’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’’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09480" y="2362320"/>
          <a:ext cx="2819520" cy="2361960"/>
        </p:xfrm>
        <a:graphic>
          <a:graphicData uri="http://schemas.openxmlformats.org/drawingml/2006/table">
            <a:tbl>
              <a:tblPr/>
              <a:tblGrid>
                <a:gridCol w="704880"/>
                <a:gridCol w="704880"/>
                <a:gridCol w="704880"/>
                <a:gridCol w="704880"/>
              </a:tblGrid>
              <a:tr h="78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 flipV="1">
            <a:off x="2438280" y="2742840"/>
            <a:ext cx="3048120" cy="68580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3429000"/>
            <a:ext cx="3048120" cy="76320"/>
          </a:xfrm>
          <a:prstGeom prst="line">
            <a:avLst/>
          </a:prstGeom>
          <a:ln w="475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3429000"/>
            <a:ext cx="3048120" cy="762120"/>
          </a:xfrm>
          <a:prstGeom prst="line">
            <a:avLst/>
          </a:prstGeom>
          <a:ln w="475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3429000"/>
            <a:ext cx="3048120" cy="1371600"/>
          </a:xfrm>
          <a:prstGeom prst="line">
            <a:avLst/>
          </a:prstGeom>
          <a:ln w="475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eta koloró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Dodanie szumu w indeksach poza tajnymi dany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ra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715000" y="2438280"/>
          <a:ext cx="914400" cy="279396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’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’’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066680" y="2133720"/>
          <a:ext cx="838440" cy="342900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1523880" y="2438280"/>
            <a:ext cx="4038840" cy="236232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447920" y="2514600"/>
            <a:ext cx="4038480" cy="45720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3581280"/>
            <a:ext cx="4038840" cy="60984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47920" y="2590560"/>
            <a:ext cx="4190760" cy="152388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523880" y="2971800"/>
            <a:ext cx="4191120" cy="175248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752480" y="2819160"/>
            <a:ext cx="3886200" cy="243828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eta koloró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Wymieszanie pal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2438280"/>
          <a:ext cx="3124080" cy="2895840"/>
        </p:xfrm>
        <a:graphic>
          <a:graphicData uri="http://schemas.openxmlformats.org/drawingml/2006/table">
            <a:tbl>
              <a:tblPr/>
              <a:tblGrid>
                <a:gridCol w="624600"/>
                <a:gridCol w="624960"/>
                <a:gridCol w="624600"/>
                <a:gridCol w="624960"/>
                <a:gridCol w="62496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5334120" y="2438280"/>
          <a:ext cx="3124080" cy="2895840"/>
        </p:xfrm>
        <a:graphic>
          <a:graphicData uri="http://schemas.openxmlformats.org/drawingml/2006/table">
            <a:tbl>
              <a:tblPr/>
              <a:tblGrid>
                <a:gridCol w="625320"/>
                <a:gridCol w="623880"/>
                <a:gridCol w="625680"/>
                <a:gridCol w="623880"/>
                <a:gridCol w="6253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3809880" y="3886200"/>
            <a:ext cx="1219320" cy="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cemy przekazać wiadomość tak, aby sam fakt przesyłania nie został odkry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śnik wiadomości może być dostępny dla wielu osób, w tym dla przeciwnika – jednak tylko adresat wiadomości będzie wiedział jak odczytać ukrytą treś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ompresja strat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Ukrywanie informacji w istotnych elementach obraz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dporność na przypadkowe lub celowe uszkodzenie obraz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etody typu Transform Domain Techniqu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- dyskretna transformacja cosinusowa (D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- transformacja falow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etody niezależne od formatu pli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ybór nośni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żo szczegółów (zdjęc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z płynnych przejść między kolor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żo większy niż kodowana inform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Steganografia w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ierwsze pomysły: pingowanie maszy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iadomości w polach nagłówka nieużywanych w praktyce lub tych które powinny mieć konkretną wartoś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oblem: firewall’e zerują te p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czątkowe numery sekwencyjne (IS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używane przy nawiązywaniu połącz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 założenia generowane losow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oblem: co 4 bajty potrzebne nowe połącze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gląda jak skanowanie port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TCP/IP cd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mysł: timesta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le używane do optymalizowania prędkości transmis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kt po drodze nie zmienia tej wartoś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 wielu systemach rozdzielczość rzędu 10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traktujmy ostatni bit jako losow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nając klucz można transmitować niewykrywalne wiadomości publicznie znanym algorytm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okładne analizy wykazały ze bit nie jest losow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prawka: podsłuchać rozkład i dostroić gene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e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Html – tagi, wielkość liter, nazwy załączników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RC – celowe niszczenie ram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akie ramki są standardowo odrzucane przez aplikac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Stegoanali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Stegoanaliza jest sztuką zapobiegania lub wykrywania steganografii. Polega ona z reguły na usunięciu ukrytej informacji lub sprowadzeniu jej do bezużyteczności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D’s of Defeating Steganography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cr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str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kc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prawdzanie plików graficznych pod kątem nieregularnoś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zukanie bardzo bliskich sobie par piks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prawdzanie liczby kolor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prawdzanie daty ostatnich modifikac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Różnice w używanych formatach na stronach ww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kc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gdetect – University of Michi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nalizuje częstotliwość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T (Discrete Cosine Transform)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;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estego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or Jessica Fridrich, State University of New York, Bingham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naliza par kolorów w obrazku – szukanie znacznego wzrostu praktycznie identycznych p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kasowan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echwycić wiadomoś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mienić j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yciąć do mniejszego forma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mienić głębie kolor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achować w innym formacie (gif,jpg,bm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większyć stopień kompresji (stratne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owolna kombinacja powyższ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apisać i przesłać dalej jako oryginalnie otrzyman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Ukryty przekaz zostanie prawdopodobnie (choć nie na pewno!) zniszczo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zyfrowan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 założeniu bardzo proste – cyt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eg, borrow, buy or ste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pass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location of th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encryption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software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d then open the message at your lei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zyfrowan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rzebny oryginał – prostsze, mało praktycz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epotrzebny oryginał – trzeba znać wspólny klucz, posiadać dobry generator liczb pseudolosow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dporność na atak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blem w ocenie odporności steganografii (lepiej wierzyć praktyko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Ukrycie kolejnych wiadomoś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Freeware’owy StegDetect (XSteg) – wskazuje JPEG’i z ukrytą informacj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 rzadko wykrywane wiadomości poniżej 1% objętości nośn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 powyżej 10%: wszystk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zy ktoś tego wszystkiego używ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oryści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órcy (znaki wod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y przeszukujące sieć najwięcej potencjalnie ukrytych informacji wykryły na aukcjach, stronach pornograficznych, czatach sportow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Łatwe dla każdego (darmowy ScramDisk3 ukrywa całe systemy plikó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Słabości steganograf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iadomości muszą pozostać względnie mał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iększość obrazków w internecie jest niewielkich rozmiarów (&lt;15K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lik wielkości 1-2KB (strona tekstu) może być z łatwością ukryty przy wykorzystaniu steganograf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iększy rozmiar ukrywanych danych może znacznie powiększyć początkowy rozmiar pliku – przykrywki, co zwiększa prawdopodobieństwo wykrycia (zbyt duży rozmiar w stosunku do innych podobnych plików na stronie budzi podejrzen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 plikach audio liczba możliwych do upchnięcia danych jest nawet mniejsza (maksymalni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 w pliku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K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Znaki wod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20908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Znaki wod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anie głównie nad niewidzialnymi znakami wodny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ot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porne (kompresja, rozmywanie, zmiana rozmiaru, kontrastu, jasnośc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k to jest z tymi terrorystam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 sierpniu 200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Michigan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eprowadził kompleksowe badania witryny eb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prawdzono ponad dwa miliony plików graficzny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,000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znano za podejrzane pod względem steganograf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,000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ogło zawierać ukryty inny obr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óby złamania haseł dostępowych do tych plików (o ile rzeczywiście pliki te zawierały jakąś ukrytą treść zabezpieczoną hasłem) spełzły na niczy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estowy plik został poprawnie znaleziony, wykryty, a hasło zostało złam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odobne przeszukiwanie miało miejsce w usenecie, z podobnym skutki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ięcej informacj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www.citi.umich.edu/u/pro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Słabości badania U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ukanie jedynie pewnego zakresu treści, tylko w plikach 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prawdzanie plików przygotowanych programam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guess, Jsteg, JPH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rak testów pod kątem programu S-Tools (dość popularneg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rak testów plików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bmp, .gif,.wa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erroryści mogli teoretycznie używać całkowicie własnych aplikacji steganograficzny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oszukiwania „jedynie” w dwóch miejscach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Bay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se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łownikowe metody łamania haseł korzystały jedynie ze słowników: angielskiego, niemieckiego, francuskiego oraz zbioru popularnych słów z Koranu oraz literatury popularne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wentualne hasła mogły być zwyczajnie odporne na metody słownikowe (hasła długie, zawierające cyfry i znaki niealfanumerycz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Wnioski U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rzy możliwośc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Użytkownicy internetu nie korzystają w zasadzie ze steganograf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kt nie używa programów, których działania poszukiwa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zyscy użytkownicy programów steganograficzych umieją wybrać odpowiednio skomplikowane hasł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ekawost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74296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Pojęcie „steganografia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ganos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(gr) – ukry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graphy (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isanie, rysowani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Idea steganografii polega na niezauważalnej dla wzroku lub ucha zmianie cyfrowego zapisu tekstu, obrazu lub utworu muzycznego. Owe modyfikacje mogą nieść poufne, praktycznie niemożliwe do odczytania przez osobę niewtajemniczoną, treści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ybrane link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arzędz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jjtc.com</a:t>
            </a:r>
            <a:r>
              <a:rPr b="0" lang="pl-PL" sz="24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/Steganography/</a:t>
            </a:r>
            <a:r>
              <a:rPr b="0" lang="pl-PL" sz="24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toolmatrix.htm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– 146 narzęd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ojekty hakerskie”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iggin Em Walls (part 3) – Advanced/Other Techniques for ByPassing Firewall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http://neworder.box.sk/user.php?name=Ka0tic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hrack magazine 49, 1996-11-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www.phrack.org</a:t>
            </a:r>
            <a:r>
              <a:rPr b="0" lang="pl-PL" sz="2400" spc="-1" strike="noStrike" u="sng">
                <a:solidFill>
                  <a:srgbClr val="86d1ec"/>
                </a:solidFill>
                <a:uFillTx/>
                <a:latin typeface="Arial"/>
                <a:hlinkClick r:id="rId8"/>
              </a:rPr>
              <a:t>/show.php?p=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Firewall bypass via protpcol steganograph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 u="sng">
                <a:solidFill>
                  <a:srgbClr val="86d1ec"/>
                </a:solidFill>
                <a:uFillTx/>
                <a:latin typeface="Arial"/>
                <a:hlinkClick r:id="rId9"/>
              </a:rPr>
              <a:t>www.networkpenetration.com</a:t>
            </a:r>
            <a:r>
              <a:rPr b="0" lang="pl-PL" sz="2400" spc="-1" strike="noStrike" u="sng">
                <a:solidFill>
                  <a:srgbClr val="86d1ec"/>
                </a:solidFill>
                <a:uFillTx/>
                <a:latin typeface="Arial"/>
                <a:hlinkClick r:id="rId10"/>
              </a:rPr>
              <a:t>/</a:t>
            </a:r>
            <a:r>
              <a:rPr b="0" lang="pl-PL" sz="2400" spc="-1" strike="noStrike" u="sng">
                <a:solidFill>
                  <a:srgbClr val="86d1ec"/>
                </a:solidFill>
                <a:uFillTx/>
                <a:latin typeface="Arial"/>
                <a:hlinkClick r:id="rId11"/>
              </a:rPr>
              <a:t>protocol_steg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 co tyle hałas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teganografia istniała w różnych formach od wieków – na światło dzienne została jednak wywleczona w ostatnich lat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o momentu masowego korzystania z komputerów i internetu temat ten był dla szarego człowieka całkowicie ob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ierwsza konferencja naukowa dot. Steganografii odbyła się dopiero w 1996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 się zmienił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 co tyle hałasu? c.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040" y="1268280"/>
            <a:ext cx="3747960" cy="5589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36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 końcem lat 90-tych zaczęto przypuszczać, że steganografią mogą się posługiwać terroryś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o 11 września nastąpiła w USA masowa histeria – uznawano, że wszędzie dookoła (usenet, ebay, Amazon itd.) są ukryte tajne informacje od Osamy do jego uśpionych agentów, czekających tylko na wezwan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erroryści mieli sobie przekazywać informacje o następnych atakach poprzez wymianę plików z ukrytą właściwą treścią (wymiana miałaby następować właśnie poprzez grupy dyskusyjne oraz publiczne chatroom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wierdzono, że ukryta treść jest najczęściej maskowana pod zdjęciami pornograficzny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33560"/>
            <a:ext cx="8086680" cy="4924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284720" y="765000"/>
            <a:ext cx="4859280" cy="4222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-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cret Languag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jackers May Have Used Secret Internet Messaging Techniqu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20:06:08Z</dcterms:created>
  <dc:creator>Piotr Turski, Stanisław Witkowski</dc:creator>
  <dc:description/>
  <dc:language>en-US</dc:language>
  <cp:lastModifiedBy>Witkowski</cp:lastModifiedBy>
  <dcterms:modified xsi:type="dcterms:W3CDTF">2005-04-24T11:50:16Z</dcterms:modified>
  <cp:revision>47</cp:revision>
  <dc:subject/>
  <dc:title>Steganografia</dc:title>
</cp:coreProperties>
</file>