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93D0-6CAD-4962-941C-E04C2D18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22D-9458-4453-97C7-59756E8A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20B-7420-4BDE-9E40-072933AF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FBB-F26F-4F8F-BA19-5F42F565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F8D9-5FDF-4827-83B0-42B2B48C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47BA-1EAF-4B88-889B-2F3D4868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12E6-35CE-4A87-B9BC-674C6224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DEBD-795A-4831-90D5-657086DF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2612-3372-4E82-B50F-D3E3BD00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643D-8ADF-45AF-8423-06FCF781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4B4D-1E0F-4579-8A08-C1B18769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7D89-4561-42DD-BCBC-DECB036D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AF58-4DE6-4393-B48F-7296F6E0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A9C7-3E32-49C3-9F00-97D2F4F3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754E-5764-4A2A-958D-0F322AF1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D8FD-A367-4D23-AC9D-06369A7D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B292-49FF-41A4-9B22-8710AEE8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6144-4DD7-4411-B59D-8218E85B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69DB-CD79-47C9-A6D3-F9CF8CFE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42E-E511-4929-8B2B-AAD567F8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253-9960-49EB-8395-13DEC30E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3ECB-3840-42A2-92D9-4C06D388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6DF-0E9B-4EDE-87D1-C60236F0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1A9-5E7A-4478-A6FB-5468137D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8A17-04F1-4571-A573-37120F275AAA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4FDB-C6F6-4B7B-9901-2B5189F40928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rsasecurity.com/rsalabs/node.asp?id=2176" TargetMode="External"/><Relationship Id="rId2" Type="http://schemas.openxmlformats.org/officeDocument/2006/relationships/hyperlink" Target="http://en.wikipedia.org/wiki/Cryptographic_hash_function" TargetMode="External"/><Relationship Id="rId3" Type="http://schemas.openxmlformats.org/officeDocument/2006/relationships/hyperlink" Target="http://www.cacr.math.uwaterloo.ca/hac/about/chap9.pdf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30066"/>
                </a:solidFill>
                <a:latin typeface="Arial"/>
              </a:rPr>
              <a:t>Wybrane aspekty funkcji haszujących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ktyczne protokoły kryptograficz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kwietnia 2005 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Ogólny model iteracyjnej funkcji haszującej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562720" cy="4514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908000" y="6308640"/>
            <a:ext cx="46198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łówne metody wyrównania długości wiadomości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danie na koniec wiadomości odpowiedniej ilości 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danie na koniec wiadomości pojedynczego bitu 1, a następnie odpowiednią ilość 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98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Ogólny model iteracyjnej funkcji haszującej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562720" cy="4514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908000" y="6308640"/>
            <a:ext cx="46198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Algorytm Merkle-Damgar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ane wejściowe: odporna na kolizje funkcja kompresji f przyjmująca argumenty rozmiaru (r+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 wartości rozmiaru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ynik: odporna na kolizje funkcja haszująca h o wartościach rozmiaru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76360" y="4132440"/>
            <a:ext cx="59342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Fakt (Merkle, Damgar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Funkcja haszująca skonstruowana przy użyciu odpornej na kolizje funkcji kompresji jest również odporna na koliz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Najpopularniejsze funkcje haszujące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D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0066"/>
                </a:solidFill>
                <a:uFillTx/>
                <a:latin typeface="Arial"/>
              </a:rPr>
              <a:t>NMAC i HMAC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ichał Wesołow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330066"/>
                </a:solidFill>
                <a:uFillTx/>
                <a:latin typeface="Arial"/>
              </a:rPr>
              <a:t>MA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hrona integralnoś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wierzytelnianie tekstu wiadomoś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ykorzystanie tajnego kluc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330066"/>
                </a:solidFill>
                <a:uFillTx/>
                <a:latin typeface="Arial"/>
              </a:rPr>
              <a:t>MAC z funkcjami skrótu - zale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zybszy niż MAC oparty na szyfrach blokowych takich jak D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ementacje funkcji skrótu są darmowe i łatwo dostęp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ak ograniczenia długości bloku tekstu poddawanego ochro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kcje skrótu nie są objęte restrykcjami eksportowymi U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330066"/>
                </a:solidFill>
                <a:uFillTx/>
                <a:latin typeface="Arial"/>
              </a:rPr>
              <a:t>Klucze i funkcje skrót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wa podejścia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- konkatenacja klucza i wiadomości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- użycie klucza jako wartości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czątkowej funkcji skrót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ugie podejście łatwiej poddaje się analizie bezpieczeństw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żna jednak symulować drugie podejście przez dodawanie klucza do wiadomoś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an prezentacj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Wstęp do funkcji haszujących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Karolina Tabor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HMAC – Michał Wesołows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rzegląd najnowszych osiągnięć w łamaniu funkcji haszujących – Przemysław Strzelcza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330066"/>
                </a:solidFill>
                <a:uFillTx/>
                <a:latin typeface="Arial"/>
              </a:rPr>
              <a:t>Funkcje skrótu z wartością początkową traktowaną jako klucz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Niech funkcja 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pl-PL" sz="3000" spc="-1" strike="noStrike" baseline="-20000">
                <a:solidFill>
                  <a:srgbClr val="000000"/>
                </a:solidFill>
                <a:latin typeface="Arial"/>
              </a:rPr>
              <a:t>k 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definiowana jako </a:t>
            </a:r>
            <a:br>
              <a:rPr sz="3000"/>
            </a:b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pl-PL" sz="3000" spc="-1" strike="noStrike" baseline="-2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(x) = f(k, x)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będzie funkcją kompresji z kluczem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, gdzie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|k| = l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|x| = 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la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x = x</a:t>
            </a:r>
            <a:r>
              <a:rPr b="0" i="1" lang="pl-PL" sz="3000" spc="-1" strike="noStrike" baseline="-2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i="1" lang="pl-PL" sz="3000" spc="-1" strike="noStrike" baseline="-20000">
                <a:solidFill>
                  <a:srgbClr val="000000"/>
                </a:solidFill>
                <a:latin typeface="Arial"/>
              </a:rPr>
              <a:t>n</a:t>
            </a:r>
            <a:r>
              <a:rPr b="0" lang="pl-PL" sz="3000" spc="-1" strike="noStrike" baseline="-20000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możemy zdefiniować teraz funkcję skrótu z kluczem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(x) = k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n+1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gdzie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3000" spc="-1" strike="noStrike" baseline="-28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dla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i = 1, …, n+1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n+1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 = |x|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ryginalną iteracyjną funkcją skrótu jest funkcja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IV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 u="sng">
                <a:solidFill>
                  <a:srgbClr val="330066"/>
                </a:solidFill>
                <a:uFillTx/>
                <a:latin typeface="Arial"/>
              </a:rPr>
              <a:t>NMAC – Nested MA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Niech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k = (k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gdzie |k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| = |k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| = l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Funkcja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NMAC(x)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to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pl-PL" sz="3000" spc="-1" strike="noStrike">
                <a:solidFill>
                  <a:srgbClr val="000000"/>
                </a:solidFill>
                <a:latin typeface="Arial"/>
              </a:rPr>
              <a:t>NMAC</a:t>
            </a:r>
            <a:r>
              <a:rPr b="1" i="1" lang="pl-PL" sz="3000" spc="-1" strike="noStrike" baseline="-16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pl-PL" sz="3000" spc="-1" strike="noStrike">
                <a:solidFill>
                  <a:srgbClr val="000000"/>
                </a:solidFill>
                <a:latin typeface="Arial"/>
              </a:rPr>
              <a:t>(x) = F</a:t>
            </a:r>
            <a:r>
              <a:rPr b="1" i="1" lang="pl-PL" sz="3000" spc="-1" strike="noStrike" baseline="-16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pl-PL" sz="30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pl-PL" sz="30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1" i="1" lang="pl-PL" sz="3000" spc="-1" strike="noStrike" baseline="-16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pl-PL" sz="30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pl-PL" sz="3000" spc="-1" strike="noStrike">
                <a:solidFill>
                  <a:srgbClr val="000000"/>
                </a:solidFill>
                <a:latin typeface="Arial"/>
              </a:rPr>
              <a:t>(x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Bezpieczeństwo NMAC jest praktycznie takie samo jak bezpieczeństwo używanej przez niego funkcji skró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330066"/>
                </a:solidFill>
                <a:uFillTx/>
                <a:latin typeface="Arial"/>
              </a:rPr>
              <a:t>HMAC - właściwośc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st funkcją MAC opartą na funkcjach skrótu, której wartość początkow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st stał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że wykorzystywać darmowe biblioteki implementujące funkcje skrótu jako czarną skrzynkę (NMAC musiał mieć bezpośredni dostęp do funkcji kompresujących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żywa tylko jednego kluc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330066"/>
                </a:solidFill>
                <a:uFillTx/>
                <a:latin typeface="Arial"/>
              </a:rPr>
              <a:t>HMAC - algoryt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1" i="1" lang="pl-PL" sz="3000" spc="-1" strike="noStrike" baseline="-16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pl-PL" sz="3000" spc="-1" strike="noStrike">
                <a:solidFill>
                  <a:srgbClr val="000000"/>
                </a:solidFill>
                <a:latin typeface="Arial"/>
              </a:rPr>
              <a:t>(x) = F(k’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i="1" lang="pl-PL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pl-PL" sz="3000" spc="-1" strike="noStrike">
                <a:solidFill>
                  <a:srgbClr val="000000"/>
                </a:solidFill>
                <a:latin typeface="Arial"/>
              </a:rPr>
              <a:t>opad,F(k’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i="1" lang="pl-PL" sz="3000" spc="-1" strike="noStrike">
                <a:solidFill>
                  <a:srgbClr val="000000"/>
                </a:solidFill>
                <a:latin typeface="Arial"/>
              </a:rPr>
              <a:t>ipad,x))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, gdzi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to funkcja skrótu z ustaloną wartością początkową (bez klucza),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to dane wejściowe, a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losowy ciąg o długości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k’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dopełniony zerami tak aby jego długość była równa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b; opad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 ipad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to dwa ustalone ciągi o długości b,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i="1" lang="pl-PL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  <a:ea typeface="Arial"/>
              </a:rPr>
              <a:t>bitowy operator xor, natomiast przecinki oznaczają konkatenację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330066"/>
                </a:solidFill>
                <a:uFillTx/>
                <a:latin typeface="Arial"/>
              </a:rPr>
              <a:t>HMAC - bezpieczeństw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Bezpieczeństwo HMAC można pokazać na podstawie bezpieczeństwa NMAC. Gdy</a:t>
            </a:r>
            <a:br>
              <a:rPr sz="3000"/>
            </a:b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 = f(k’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opad)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 = f(k’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ipad)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otrzymujemy równość: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(x)=NMAC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(k</a:t>
            </a:r>
            <a:r>
              <a:rPr b="0" i="1" lang="pl-PL" sz="30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, k</a:t>
            </a:r>
            <a:r>
              <a:rPr b="0" i="1" lang="pl-PL" sz="30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)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Funkcja f musi mieć jednak pewne własności pseudolosowości, aby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otrzymane z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nie mogły być odróżnialne przez atakującego od prawdziwie losowych wartoś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330066"/>
                </a:solidFill>
                <a:uFillTx/>
                <a:latin typeface="Arial"/>
              </a:rPr>
              <a:t>HMAC – uwagi do implementacj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HMAC jest nieco wolniejszy od NMAC – można to jednak obejść zapamiętując wartości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 = f(k’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opad)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 = f(k’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ipad)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Istnieje możliwość użycia kluczy o długościach innych niż 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Należy zadbać o bezpieczne zarządzanie kluczami i o ich regularne wymienia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330066"/>
                </a:solidFill>
                <a:uFillTx/>
                <a:latin typeface="Arial"/>
              </a:rPr>
              <a:t>Ataki i porównanie z propozycjami innymi niż NMAC i HMAC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Atak z wykorzystaniem paradoksu dnia urodzin – dla NMAC i HMAC wymaga interakcji z posiadaczem klucza, co uniemożliwia rozproszenie ata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(x) = F(x, k) - a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tak poszukujący kolizji na funkcje skrótu bez klucza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0" i="1" lang="pl-PL" sz="3000" spc="-1" strike="noStrike" baseline="-16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3000" spc="-1" strike="noStrike">
                <a:solidFill>
                  <a:srgbClr val="000000"/>
                </a:solidFill>
                <a:latin typeface="Arial"/>
              </a:rPr>
              <a:t>(x) = F(k, x) -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atak z wykorzystaniem rozszerzenia wiadomości – NMAC i HMAC są na niego odporne dzięki zastosowaniu zewnętrznej funkcji skró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0066"/>
                </a:solidFill>
                <a:latin typeface="Arial"/>
              </a:rPr>
              <a:t>Przegląd najnowszych osiągnięć w łamaniu funkcji haszujących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zemysław Strzelcz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 już wiemy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Co to są funkcje haszujące i do czego służ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Jakie ich własności są pożądane i jakie są konsekwencje ich bra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Jak szeroka jest gama ich zastosowa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Jakie funkcje haszujące obecnie się stosu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Zatem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Wiemy również, czemu tak popularne są badania nad łamaniem funkcji haszujących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30066"/>
                </a:solidFill>
                <a:latin typeface="Arial"/>
              </a:rPr>
              <a:t>Wstęp do funkcji haszujących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olina Tabo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eszcze jeden podział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Funkcje oparte na szyfrach blokowych      (np. Na DES-i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Funkcje oparte na arytmetyce modulo       (np. MASH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edykowane funkcje haszujące oparte na algorytmie MD4 – najbardziej rozpowszechn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Serce najpopularniejszych funkcji haszujący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kcja kompres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ział wejścia na blo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mat iteracyj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Najpopularniejsze funkcje haszują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D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D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PEM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lgorytm MD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aprojektowany przez Ronalda Rivesta w 1991 ro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Udoskonalony MD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ługość skrótu - 128 bi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ługość bloku w jednej iteracji – 512 bi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64 rundy w jednej iterac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D5 - szczegół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41600" y="1341360"/>
            <a:ext cx="4251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D5 – funkcje kompresj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71640" y="1887480"/>
            <a:ext cx="2828880" cy="214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900000" y="2587680"/>
            <a:ext cx="2791080" cy="214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971640" y="3219480"/>
            <a:ext cx="2124000" cy="214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971640" y="3851280"/>
            <a:ext cx="228600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HA-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aprojektowany przez National Security Agency (NS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Członek rodziny SHA-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ługość skrótu - 160 bi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ługość bloku w jednej iteracji - 512 bi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80 rund w jednej iterac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owszechnie używany np. w TLS, SSL, SSH, IPSec it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HA-1 - sche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978200" y="1125360"/>
            <a:ext cx="46335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Cele teoretycznych ataków na funkcje haszują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naleźć przeciwobraz skrótu – nie praktykow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la danej wiadomości znaleźć wiadomość kolidując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naleźć dowolne dwie wiadomości kolidują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„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kademicka” definicja atak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atakuj lepiej niż algorytm brutalnej siły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Główne klasy funkcji haszujących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funkcje haszujące bez kluc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funkcje haszujące z klucz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Złożoność algorytmów brutalnej sił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nalezienie przeciwobrazu – średnio 2</a:t>
            </a:r>
            <a:r>
              <a:rPr b="0" lang="pl-PL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nalezienie drugiej wiadomości kolidującej z ustaloną – 2</a:t>
            </a:r>
            <a:r>
              <a:rPr b="0" lang="pl-PL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nalezienie dowolnych dwóch elementów będących ze sobą w kolizji – 2</a:t>
            </a:r>
            <a:r>
              <a:rPr b="0" lang="pl-PL" sz="30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(paradoks urodz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Pseudoataki na funkcje haszują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nalezienie kolizji dla tej samej wiadomości dla dwóch różnych wartości początkowych (pseudokolizj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nalezienie kolizji dla różnych wiadomości i z wartością początkową (free-start attac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jważniejsze techniki znajdowania kolizj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Kryptoanaliza różnicow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nie ma sobie równych (jak na razie</a:t>
            </a:r>
            <a:r>
              <a:rPr b="0" lang="pl-P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Kryptoanaliza różnicowa - szczegół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danie własności funkcji kompres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yfikacja warunku koniecznego, który musi zachodzić pomiędzy kolidującymi wiadomościa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nioskowanie zbioru warunków wystarczających na wystąpienie koliz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la dowolnej wiadomości zmodyfikowanie jej zgodnie z regułami ze zbioru warunków wystarczający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Kryptoanaliza różnicowa - sukces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najdowanie kolizji dla MD4 w czasie 2</a:t>
            </a:r>
            <a:r>
              <a:rPr b="0" lang="pl-PL" sz="30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(1996 r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To samo w czasie 2</a:t>
            </a:r>
            <a:r>
              <a:rPr b="0" lang="pl-PL" sz="3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z prawdopodobieństwem od 2</a:t>
            </a:r>
            <a:r>
              <a:rPr b="0" lang="pl-PL" sz="3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do 2</a:t>
            </a:r>
            <a:r>
              <a:rPr b="0" lang="pl-PL" sz="3000" spc="-1" strike="noStrike" baseline="30000">
                <a:solidFill>
                  <a:srgbClr val="000000"/>
                </a:solidFill>
                <a:latin typeface="Arial"/>
              </a:rPr>
              <a:t>-6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(2005 r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nalezienie kolidujących par dla MD5, HAVAL-128, RIPEMD (2004 r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nalezienie pierwszych na świecie kolidujących wiadomości dla zredukowanego do 58 kroków SHA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jważniejsze wynik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Xiaoyun Wang, Dengguo Feng, Xuejia Lai, Hongbo Yu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llisions for Hash Functions MD4, MD5, HAVAL-128 and RIPEMD”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Xiaoyun Wang, Xuejia Lai, Dengguo Feng, Hui Chen, Xiuyuan Yu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„Cryptanalysis of the Hash Functions MD4 and RIPEMD”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(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Xiaoyun Wang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Yiqun Lisa Yin,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Hongbo Yu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„Collision Search Attacks on SHA1”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(13. 02.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aktyczne konsekwencje znanych atakó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o znalezienie kolizji nie oznacza od razu rzeczywistego ata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łynie jeszcze trochę wody w Wiśle zanim możliwe się stanie przeniesienie wyników teoretycznych na praktyk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zy zatem możemy spać spokojni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Atak na SHA-1 wzbudził niepokó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lanuje się przyjęcie jako wiodących funkcji z rodziny SHA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Nie martwcie się, czuwamy” – zapewniają eksperci z RSA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Kilka przydatnych linków dla ciekawych… na początek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rsasecurity.com/rsalabs/node.asp?id=217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en.wikipedia.org/wiki/Cryptographic_hash_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www.cacr.math.uwaterloo.ca/hac/about/chap9.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Własności funkcji haszujących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mpres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łatwość obliczenia wartości funkcji dla danego argumen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4388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330066"/>
                </a:solidFill>
                <a:latin typeface="Arial"/>
              </a:rPr>
              <a:t>Podstawowe wymagania wobec kryptograficznych funkcji haszujących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 jest trudno odwracal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 jest słabo odporna na koliz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 jest silnie odporna na koliz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ak „przedłużenie wiadomości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Mając dane h(m) i len(m), ale nie m, wybierając odpowiednio m' można obliczyć h(m||m'), gdzie || oznacza konkatenację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Zastosowania funkcji haszujących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ryfikacja integralności dany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twierdzanie wied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ryfikacja hasł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pis elektronicz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mple czasow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yfikowanie pli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owanie liczb pseudolosowy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543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Niebezpieczeństwa w przypadku braku wymaganych własności funkcji: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ak odporności na kolizje grozi możliwością podmieniania wiadomoś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wracalność funkcji grozi możliwością fałszowania podpis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23:11:29Z</dcterms:created>
  <dc:creator>k</dc:creator>
  <dc:description/>
  <dc:language>en-US</dc:language>
  <cp:lastModifiedBy>Przemysław Strzelczak</cp:lastModifiedBy>
  <dcterms:modified xsi:type="dcterms:W3CDTF">2005-04-07T16:31:33Z</dcterms:modified>
  <cp:revision>77</cp:revision>
  <dc:subject/>
  <dc:title>Wybrane aspekty funkcji haszujących.</dc:title>
</cp:coreProperties>
</file>