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0F3-64E7-4333-BD6E-F7911047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64E-80C5-44FB-B28D-33946C4C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1D0-2ED4-4FB6-BE34-75307C88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092-A471-450C-B1A2-9C789FA0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103-FCD4-4487-8A05-67D7B97C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4F2-97DC-407A-BDDB-3D0940FB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625-015D-4D55-8EE8-E4CAEBB3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583-0DBA-403E-BBB1-8FE7D3B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3AB-F846-4CA8-BB1B-09FEF406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045-E215-4645-96F0-67F3206D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7E8-77A0-4631-ABD1-124E3696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805-D1EF-4F5A-883D-CAABF1AB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050F-DE5E-432F-A66F-C0C3DAC97D7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137040" y="404640"/>
            <a:ext cx="574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 to program Javy wykonywany po stro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era WWW, wykorzystujący model program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ypu zlecenie-odpowied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y pozwalają na budowanie stron interneto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treścią generowaną w sposób dynamicz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tandardowy schemat działa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chemat"/>
          <p:cNvPicPr/>
          <p:nvPr/>
        </p:nvPicPr>
        <p:blipFill>
          <a:blip r:embed="rId2"/>
          <a:stretch/>
        </p:blipFill>
        <p:spPr>
          <a:xfrm>
            <a:off x="3995640" y="2781360"/>
            <a:ext cx="42768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139200" y="404640"/>
            <a:ext cx="5325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NEROWANIE ODPOWIED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odpowiedzi na zlecenie serwlet odsyła kliento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biekt o zachowaniu określonym przez interfe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Respons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fejs ten definiuje metody pozwalaję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słać do klienta strumień da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ekstowych - korzystające z obiektu kl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rintWriter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zwracanego przez metod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getWriter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obiektu odpowied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inarnych -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OutputStream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metody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getOutputStrea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eślić rodzaj treści (content type) przesyłane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 klienta (np. text/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stalić tryb bufor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sa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Respons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rozszerza zak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nych o informacje, takie jak kody stan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iastecz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148560" y="404640"/>
            <a:ext cx="5726520" cy="59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kł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public class BookDetailsServlet extends HttpServlet {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public void doGet (HttpServletRequest reques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HttpServletResponse respons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throws ServletException, IOException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response.setContentType("text/html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response.setBufferSize(8192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PrintWriter out = response.getWriter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out.println("&lt;html&gt;" + "&lt;head&gt;&lt;title&gt; +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messages.getString("TitleBookDescription") + &lt;/title&gt;&lt;/head&gt;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String bookId = request.getParameter("bookId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if (bookId != nul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BookDetails bd = bookDB.getBookDetails(bookId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out.println("&lt;h2&gt;" + bd.getTitle() + "&lt;/h2&gt;" 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 catch (BookNotFoundException ex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response.resetBuffer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throw new ServletException(ex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out.println("&lt;/body&gt;&lt;/html&gt;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out.close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   </a:t>
            </a: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138840" y="404640"/>
            <a:ext cx="552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BSŁUGA ZDAR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czas cyklu życiowego serwletu mogą wystąpi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ozmaite zdarzenia, które należy obsłużyć. Trze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tym celu zaimplementować odpowiednie interfej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s "nasłuchujących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348000" y="2349360"/>
          <a:ext cx="5184720" cy="3267360"/>
        </p:xfrm>
        <a:graphic>
          <a:graphicData uri="http://schemas.openxmlformats.org/drawingml/2006/table">
            <a:tbl>
              <a:tblPr/>
              <a:tblGrid>
                <a:gridCol w="1008000"/>
                <a:gridCol w="1152720"/>
                <a:gridCol w="302400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z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ejs i kl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1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ek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jalizacja i destrukc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x.servlet.ServletContextListener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letContext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nie lub usunięcie atrybu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x.servlet.ServletContextAttributeList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letContextAttribute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worzenie, unieważnienie,  time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x.servlet.http.HttpSessionList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Session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nie lub usunięcie atrybu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x.servlet.http.HttpSessionAttributeList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SessionBinding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134160" y="404640"/>
            <a:ext cx="537444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kł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public final class ContextListe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implements ServletContextListe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private ServletContext contex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public void contextInitialized(ServletContextEvent ev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context = event.getServletContex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try { … } catch (Exception ex) { …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public void contextDestroyed(ServletContextEvent ev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context = event.getServletCont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e1f4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139920" y="404640"/>
            <a:ext cx="574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 to obiekt odpowiedzialny za transformacj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nagłówków lub treści) obiektów zlecenia i odpowiedz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kres działania filtrów obejmuje także możliwoś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strzymania przepływu danych między kliente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em oraz dostęp do zasobów zewnętrz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aktyczne zastosowania filtró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utentykacja użytkowni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og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wersja obraz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presja da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filtrów polega na implement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fejsu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lter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w szczególnośco funk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oFilter(), init()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 destroy().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 zazwyczaj tworzą łańcuch, który poddaje obie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ejściowy/wyjściowy kolejnym modyfikacj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klasa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lterChai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137760" y="404640"/>
            <a:ext cx="4604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chemat mapowania filtr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 powinny być oddzielnymi jednostk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zależnymi od konkretnych serwletó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025"/>
          <p:cNvPicPr/>
          <p:nvPr/>
        </p:nvPicPr>
        <p:blipFill>
          <a:blip r:embed="rId2"/>
          <a:stretch/>
        </p:blipFill>
        <p:spPr>
          <a:xfrm>
            <a:off x="3348000" y="1197000"/>
            <a:ext cx="51847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195000" y="404640"/>
            <a:ext cx="522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UTRZYMANIE SES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żywamy do tego obiektu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ssio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któ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zuskujemy dzięki metodzie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getSession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obi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lec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kła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HttpSession session = request.getSess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ShoppingCart car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         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(ShoppingCart)session.getAttribute("ca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session.invalidat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164760" y="404640"/>
            <a:ext cx="56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NALIZACJ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zwyczaj wystarczy nadpisać me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estroy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 ma miejsce dopiero wtedy, gdy obsł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szystkich  zleceń  zostanie zakońc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szczególnych przypadkach można zliczać liczb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ziałających wątków (to jedna z wyjątkowych sytuacj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dy możemy zmodyfikować me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service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kl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, zabijać wątki działające długo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132720" y="404640"/>
            <a:ext cx="317808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-komercyj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omcat Ap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Geronimo Application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Jet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ns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ercyj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Java System Application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Java System 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BEA WebLogic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Borland Enterpris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racle Application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Macromedia J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ercyjne (open-sourc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Glass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eb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8320" y="364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Uwagi dodat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37760" y="404640"/>
            <a:ext cx="5900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UWAGI DODAT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y można trzymać na dysku w postaci plik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*.war (plik JAR do archiwizacji aplikacji sieciowy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y mogą być generowane automatycz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z Java ServerPages (JSP) lub używane równole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JSP w ramach wzorca projektowego "Model 2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estaw informacji pobranych od użytkownika pr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dziale interakcyjnych składników stro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np. formularza), może zostać przekazywany 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u do serwletu, tworząc kaskad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czas działania serwletu może wystąpić dowo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lość błędów. Kontener WWW generuje wtedy domyśl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tronę błędu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ervlet Exception Has Occurre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la danego pliku WAR możemy określić własną stron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łędu (File Refs inspector w DeployT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36320" y="404640"/>
            <a:ext cx="5458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punktu widzenia programisty, serwlet to po pros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a z klas Javy, umożliwia zatem korzysta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 wszelkich funkcji dostępnych za pośrednictw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ava API, takich j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unikacja z bazą da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lne wywołania metod (R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akcja między obiektami w obręb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óżnych systemów (COR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y potrafią zapamiętywać sesję użytkow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przestrzeni kolejnych transakcji z serwer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łużą do tego mechanizmy, takie j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iasteczka 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enne sesyj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dpisywanie adresu (URL Rewri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137760" y="404640"/>
            <a:ext cx="5684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fejs serwletu dostępny jest poprzez paki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javax.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. Dostarcza on funkcji implementując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akcję między pojedynczym serwlete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em WW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 WWW jest cześcią serw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dpowiedzialną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munikację z wewnętrznymi aplikacjam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rządzanie cyklami życiowami serwle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pisywanie adresów WWW do poszczegól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eryfikację praw dostę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137040" y="404640"/>
            <a:ext cx="5863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 (klasa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 jest obiektem, który co pew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zas otrzymuje zlecenie (obiekt klasy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Reques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 następnie, na podstawie tego zlecenia gener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dpowiedz (obiekt klasy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Respons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kiet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javax.servlet.http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definiuje podklas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oraz odpowiednio kl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Reques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Respons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az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ssion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zgodne ze specyfikacją HT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Contex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to obiekt (jeden na całą aplikacj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arczający serwletom danych na temat konten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 środowiska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ażdy serwlet posiada ponadto własny obiekt kl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erConfig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który odpowiada za preferenc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u, m.in. sposób inicjaliza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139200" y="404640"/>
            <a:ext cx="589716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 polega na dostarcze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plementacji interfejsu klasy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definiując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1. klasa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zostaje załadowana wraz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ozpoczęciem pracy konte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2. kontener wywołuje me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init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serwletu, inicjalizują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o. Serwlet jest gotowy, by przyjmować zlecenia kli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nasłuchiwane przez konte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3. każde zlecenie jest obsługiwane przez oddziel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ątek. Kontener wywołuje wtedy me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service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u, która określa typ zlecenia HTTP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zależności od tego wywołuje jedną z met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doPos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doGe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1400" spc="-1" strike="noStrike">
                <a:solidFill>
                  <a:srgbClr val="ffffff"/>
                </a:solidFill>
                <a:latin typeface="Arial"/>
              </a:rPr>
              <a:t>doTrac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które muszą zostać zaimplementowane prz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istę (wpp. zostaje wywołana odpowied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etoda z nadklas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4. kontener kończy pracę serwletu, wywołując metod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estro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137760" y="404640"/>
            <a:ext cx="55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 wolno nadpisywać metody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service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za szczególnymi przypadkami, o których późn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6320" y="404640"/>
            <a:ext cx="464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ICJALIZACJ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arczy nadpisać medtodę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init()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serwle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138120" y="404640"/>
            <a:ext cx="558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OBIERANIE ZLEC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rwlet pobiera od klienta obiekt, który implement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terfejs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ervletReques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niesie ze sobą określ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rame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przypadku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HttpServletRequest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te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bejmują m.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dres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główki 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ytanie (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query string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zó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http://&lt;host&gt;:&lt;port&gt;&lt;request path&gt;?&lt;query strin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28680" y="3645000"/>
            <a:ext cx="268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de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dstawowe kl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ykl życia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Programowanie serwl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l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inali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ener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137400" y="404640"/>
            <a:ext cx="55832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kł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ink na stro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4ff"/>
                </a:solidFill>
                <a:latin typeface="Arial"/>
              </a:rPr>
              <a:t>&lt;a href="/bookstore1/catalog?Add=101"&gt;</a:t>
            </a:r>
            <a:r>
              <a:rPr b="0" lang="pl-PL" sz="1800" spc="-1" strike="noStrike">
                <a:solidFill>
                  <a:srgbClr val="e1f4ff"/>
                </a:solidFill>
                <a:latin typeface="Arial"/>
              </a:rPr>
              <a:t>Dodaj</a:t>
            </a:r>
            <a:r>
              <a:rPr b="0" lang="en-US" sz="1800" spc="-1" strike="noStrike">
                <a:solidFill>
                  <a:srgbClr val="e1f4ff"/>
                </a:solidFill>
                <a:latin typeface="Arial"/>
              </a:rPr>
              <a:t>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wyniku kliknięcia serwlet otrzymuje zlecenie, któ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oże przeanalizowa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4ff"/>
                </a:solidFill>
                <a:latin typeface="Arial"/>
              </a:rPr>
              <a:t>request.getParameter("Add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2:14:25Z</dcterms:created>
  <dc:creator>Ozell X</dc:creator>
  <dc:description/>
  <dc:language>en-US</dc:language>
  <cp:lastModifiedBy>Janusz Jabłonowski</cp:lastModifiedBy>
  <dcterms:modified xsi:type="dcterms:W3CDTF">2007-04-26T07:16:13Z</dcterms:modified>
  <cp:revision>224</cp:revision>
  <dc:subject/>
  <dc:title>Slajd 1</dc:title>
</cp:coreProperties>
</file>