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50C0-A7D1-425C-8457-CC333FBFE462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ie będę mówił o wyrazeniach regularny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nieważ ogólna składnie jest niemal identyczna jak składnia javy, więc przejdziemy od razu do konkretnych przykładó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re Java developers may use single-method interfaces (Runnable, the Command pattern) combined with anonymous inner classes, Groovy allows you to accomplish the same sort of tasks in a less verbose manner. In addition, closures have fewer constraints than anonymous inner classes and include extra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re Java developers may use single-method interfaces (Runnable, the Command pattern) combined with anonymous inner classes, Groovy allows you to accomplish the same sort of tasks in a less verbose manner. In addition, closures have fewer constraints than anonymous inner classes and include extra functional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0406-50EB-4317-AF5C-3FEB769B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99D4-A808-44FE-A507-3A33DC14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B2F-225B-442C-B4B4-873B143B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EEC-44F2-4695-9166-FA8928E06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8A4-F8BD-439A-A6D8-97177195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6FFE-E22C-433A-81ED-2A712D37B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3C4-C559-482B-8CCD-BD56F554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F6A-91E8-4291-99D1-196E7D01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556000" y="274320"/>
            <a:ext cx="6130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47E-D583-497A-B387-4861983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0E1D-7ACC-40A1-BC88-0595EFB3E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45DA-DFBA-4227-969C-2A0AEAF1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3DB0-8732-4272-B639-48633923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Michał Prządka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przadka@gmail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9DECE-DCDB-48B6-B117-42607EAF022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1128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ff"/>
                </a:solidFill>
                <a:latin typeface="Arial"/>
              </a:rPr>
              <a:t>Groov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743200" y="4581000"/>
            <a:ext cx="640080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 maja 200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pl-PL" sz="3600" spc="-1" strike="noStrike">
                <a:solidFill>
                  <a:srgbClr val="ffffff"/>
                </a:solidFill>
                <a:latin typeface="Arial"/>
              </a:rPr>
              <a:t>kolekcje i iterato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94" name=""/>
          <p:cNvGrpSpPr/>
          <p:nvPr/>
        </p:nvGrpSpPr>
        <p:grpSpPr>
          <a:xfrm>
            <a:off x="755640" y="1557360"/>
            <a:ext cx="5616720" cy="3391560"/>
            <a:chOff x="755640" y="1557360"/>
            <a:chExt cx="5616720" cy="3391560"/>
          </a:xfrm>
        </p:grpSpPr>
        <p:sp>
          <p:nvSpPr>
            <p:cNvPr id="95" name=""/>
            <p:cNvSpPr/>
            <p:nvPr/>
          </p:nvSpPr>
          <p:spPr>
            <a:xfrm>
              <a:off x="755640" y="1557360"/>
              <a:ext cx="5184720" cy="2879640"/>
            </a:xfrm>
            <a:prstGeom prst="wedgeEllipseCallout">
              <a:avLst>
                <a:gd name="adj1" fmla="val -17361"/>
                <a:gd name="adj2" fmla="val 83023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547640" y="2084400"/>
              <a:ext cx="482472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s = ["John", "Jake", "Kate" 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ges    = [10, 12, 14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s2 = names as String[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ges2 = [11,13,15] as int[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= ['A', 'B', 'C']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+= ['D']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f - = ['C'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843280" y="1773360"/>
            <a:ext cx="5543640" cy="3240000"/>
            <a:chOff x="2843280" y="1773360"/>
            <a:chExt cx="5543640" cy="3240000"/>
          </a:xfrm>
        </p:grpSpPr>
        <p:sp>
          <p:nvSpPr>
            <p:cNvPr id="98" name=""/>
            <p:cNvSpPr/>
            <p:nvPr/>
          </p:nvSpPr>
          <p:spPr>
            <a:xfrm>
              <a:off x="2843280" y="1773360"/>
              <a:ext cx="5184720" cy="3240000"/>
            </a:xfrm>
            <a:prstGeom prst="wedgeEllipseCallout">
              <a:avLst>
                <a:gd name="adj1" fmla="val -52541"/>
                <a:gd name="adj2" fmla="val 65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419640" y="2781360"/>
              <a:ext cx="4967280" cy="18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names_ages = ["John":10, "Jake":12, "Kate":14]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Courier New"/>
                </a:rPr>
                <a:t>names_ages.put("Joe",15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200" spc="-1" strike="noStrike">
                  <a:solidFill>
                    <a:srgbClr val="000000"/>
                  </a:solidFill>
                  <a:latin typeface="Courier New"/>
                </a:rPr>
                <a:t>names_ages.Jo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51280" y="3284640"/>
            <a:ext cx="5904000" cy="3240000"/>
            <a:chOff x="3851280" y="3284640"/>
            <a:chExt cx="5904000" cy="3240000"/>
          </a:xfrm>
        </p:grpSpPr>
        <p:sp>
          <p:nvSpPr>
            <p:cNvPr id="101" name=""/>
            <p:cNvSpPr/>
            <p:nvPr/>
          </p:nvSpPr>
          <p:spPr>
            <a:xfrm>
              <a:off x="3851280" y="3284640"/>
              <a:ext cx="5292720" cy="3240000"/>
            </a:xfrm>
            <a:prstGeom prst="wedgeEllipseCallout">
              <a:avLst>
                <a:gd name="adj1" fmla="val -67458"/>
                <a:gd name="adj2" fmla="val 2579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88000" y="3882960"/>
              <a:ext cx="496728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// iterate over a r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ef x =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for ( i in 0..9 ) 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+=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// iterate over a li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= 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for ( i in [0, 1, 2, 3, 4] ) 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x +=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oovy w działaniu: wzorzec Odwiedzają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Gra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Zrąb dla Groovy oparty o „</a:t>
            </a:r>
            <a:r>
              <a:rPr b="0" i="1" lang="pl-PL" sz="2400" spc="-1" strike="noStrike">
                <a:solidFill>
                  <a:srgbClr val="ffffff"/>
                </a:solidFill>
                <a:latin typeface="Arial"/>
              </a:rPr>
              <a:t>coding by convention</a:t>
            </a: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Idea bardzo zbliżona do Ruby on Rails („Groovy on Grails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zykładowa aplikacj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1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dstaw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stos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kład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oovy w działa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Grai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dstaw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Obiektowy język „skryptowy” na JVM – kompilowany do bajtkodu Javy (kompilacja przy wykonani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Współpracuje z kodem Javy i vice ver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Składnia wzorowana na Javi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Koncepcyjne wzorowany na Pythonie, Ruby, Perlu i Smalltalk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627280" y="4724280"/>
            <a:ext cx="6337440" cy="1152360"/>
            <a:chOff x="2627280" y="4724280"/>
            <a:chExt cx="6337440" cy="1152360"/>
          </a:xfrm>
        </p:grpSpPr>
        <p:sp>
          <p:nvSpPr>
            <p:cNvPr id="57" name=""/>
            <p:cNvSpPr/>
            <p:nvPr/>
          </p:nvSpPr>
          <p:spPr>
            <a:xfrm>
              <a:off x="2627280" y="4724280"/>
              <a:ext cx="6337440" cy="11523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35280" y="5157360"/>
              <a:ext cx="4753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def name='World'; println </a:t>
              </a:r>
              <a:r>
                <a:rPr b="0" lang="pl-PL" sz="1400" spc="-1" strike="noStrike">
                  <a:solidFill>
                    <a:srgbClr val="339966"/>
                  </a:solidFill>
                  <a:latin typeface="Courier New"/>
                </a:rPr>
                <a:t>"Hello $name!"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dstaw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ważniejsze cechy język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Wszystko jest obiektem – także funkc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Typowanie statyczne lub dynamiczne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sługa list, map, tablic i wyrażeń regularnych „wbudowana” w składni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Obsługa bloków (</a:t>
            </a:r>
            <a:r>
              <a:rPr b="0" i="1" lang="pl-PL" sz="2000" spc="-1" strike="noStrike">
                <a:solidFill>
                  <a:srgbClr val="ffffff"/>
                </a:solidFill>
                <a:latin typeface="Arial"/>
              </a:rPr>
              <a:t>closures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Przeładowywanie operatoró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Składniowe wsparcie dla języków znaczników (HTML, XM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340000" y="4508640"/>
            <a:ext cx="6337440" cy="1152360"/>
            <a:chOff x="2340000" y="4508640"/>
            <a:chExt cx="6337440" cy="1152360"/>
          </a:xfrm>
        </p:grpSpPr>
        <p:sp>
          <p:nvSpPr>
            <p:cNvPr id="63" name=""/>
            <p:cNvSpPr/>
            <p:nvPr/>
          </p:nvSpPr>
          <p:spPr>
            <a:xfrm>
              <a:off x="2340000" y="4508640"/>
              <a:ext cx="6337440" cy="1152360"/>
            </a:xfrm>
            <a:prstGeom prst="wedgeEllipseCallout">
              <a:avLst>
                <a:gd name="adj1" fmla="val -43750"/>
                <a:gd name="adj2" fmla="val 7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276720" y="4724280"/>
              <a:ext cx="4752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list = ["Rod", "Carlos", "Chris"]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shorts = list.findAll { it.size() &lt;= 4 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shorts.each { println it 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250920" y="1989000"/>
            <a:ext cx="7057800" cy="2448000"/>
            <a:chOff x="250920" y="1989000"/>
            <a:chExt cx="7057800" cy="2448000"/>
          </a:xfrm>
        </p:grpSpPr>
        <p:sp>
          <p:nvSpPr>
            <p:cNvPr id="67" name=""/>
            <p:cNvSpPr/>
            <p:nvPr/>
          </p:nvSpPr>
          <p:spPr>
            <a:xfrm>
              <a:off x="250920" y="1989000"/>
              <a:ext cx="7057800" cy="2448000"/>
            </a:xfrm>
            <a:prstGeom prst="wedgeEllipseCallout">
              <a:avLst>
                <a:gd name="adj1" fmla="val -32143"/>
                <a:gd name="adj2" fmla="val 7885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979280" y="2422440"/>
              <a:ext cx="4752720" cy="179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ublic class GVector extends java.util.Vector 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public void apply( c 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for (i in 0..&lt;size()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this[i] = c(this[i]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 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l-PL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Zastosowan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Języki skryptowe </a:t>
            </a:r>
            <a:r>
              <a:rPr b="0" lang="pl-PL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 języki „bardzo wysokiego poziomu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zybkie” program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astosowania dla Groov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ste, konkretne proble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Prototy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t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ładnia: dynamiczne typ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74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75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50920" y="2060640"/>
              <a:ext cx="5905800" cy="30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ass Song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lengt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ass Book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uth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ef doSomething(thing){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println "going to do something with a thing named = " + thing.na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kładnia: dynamiczne typow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80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50920" y="2365200"/>
              <a:ext cx="590580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ySong = new Song(length:90, name:"Burning Down the House"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myBook = new Book(name:"One Duck Stuck", author:"Phyllis Root"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Something(mySong) //prints Burning Down the Hou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doSomething(myBook) //prints One Duck Stu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notherSomething = doSometh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anotherSomething(myBook) //prints One Duck Stuc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knię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85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56000" y="1889280"/>
              <a:ext cx="4824360" cy="31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class Dog{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train(){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tion.call(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it = { println "Sit, Sit! Sit! Good dog"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down = { println "Down! DOWN!" }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yDog = new Dog(action:sit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yDog.train()  // prints Sit, Sit! Sit! Good do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ollie = new Dog(action:down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ollie.train() // prints Down! DOWN!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462f"/>
            </a:gs>
            <a:gs pos="50000">
              <a:srgbClr val="339966"/>
            </a:gs>
            <a:gs pos="100000">
              <a:srgbClr val="17462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56000" y="274320"/>
            <a:ext cx="613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kładnia: 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omknię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39640" y="5300640"/>
            <a:ext cx="2268720" cy="1703520"/>
          </a:xfrm>
          <a:prstGeom prst="rect">
            <a:avLst/>
          </a:prstGeom>
          <a:ln w="0">
            <a:noFill/>
          </a:ln>
        </p:spPr>
      </p:pic>
      <p:grpSp>
        <p:nvGrpSpPr>
          <p:cNvPr id="89" name=""/>
          <p:cNvGrpSpPr/>
          <p:nvPr/>
        </p:nvGrpSpPr>
        <p:grpSpPr>
          <a:xfrm>
            <a:off x="755640" y="1557360"/>
            <a:ext cx="7993080" cy="3959280"/>
            <a:chOff x="755640" y="1557360"/>
            <a:chExt cx="7993080" cy="3959280"/>
          </a:xfrm>
        </p:grpSpPr>
        <p:sp>
          <p:nvSpPr>
            <p:cNvPr id="90" name=""/>
            <p:cNvSpPr/>
            <p:nvPr/>
          </p:nvSpPr>
          <p:spPr>
            <a:xfrm>
              <a:off x="755640" y="1557360"/>
              <a:ext cx="7993080" cy="3959280"/>
            </a:xfrm>
            <a:prstGeom prst="wedgeEllipseCallout">
              <a:avLst>
                <a:gd name="adj1" fmla="val -28828"/>
                <a:gd name="adj2" fmla="val 467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556000" y="1889280"/>
              <a:ext cx="4824360" cy="32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 b = new Button ("Push Me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.onClick (new Actio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public void execute (Object target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Clicked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}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l-PL" sz="1600" spc="-1" strike="noStrike">
                  <a:solidFill>
                    <a:srgbClr val="000000"/>
                  </a:solidFill>
                  <a:latin typeface="Courier New"/>
                </a:rPr>
                <a:t>----------------------------------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utton b = new Button ("Push Me"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b.onClick { buttonClicked() 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20:49:04Z</dcterms:created>
  <dc:creator>michal</dc:creator>
  <dc:description/>
  <dc:language>en-US</dc:language>
  <cp:lastModifiedBy>Janusz Jabłonowski</cp:lastModifiedBy>
  <dcterms:modified xsi:type="dcterms:W3CDTF">2007-05-22T21:53:08Z</dcterms:modified>
  <cp:revision>57</cp:revision>
  <dc:subject/>
  <dc:title>Slide 1</dc:title>
</cp:coreProperties>
</file>