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1F4E-0D2E-44E5-9AE1-FEBE1ECE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30B-56E1-49C9-BF7F-5A8D7C15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AFE5-F811-4AB8-97E3-D60096AA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650-3E50-484E-BBE5-4105988B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1C55-7749-4BFF-B0D2-FC7082A0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EB3B-8FFF-4DCC-8B21-5AAAD4D1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C49C-A53D-446C-8723-539EEB79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DF52-2138-4C62-957D-B04CF7B0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8CA3-E982-430B-A15F-6F30F499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67A0-1B79-45DF-8152-B5C43213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7914-2AEA-4626-B2E4-4CE18110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EAA5-B244-4D71-BFE9-AAFADEE3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E06F-961E-4D82-B7A4-C24D902D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BFFE-F408-4C2A-86D8-0E04CC0F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420A-B785-44EB-A348-6CD619F7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9B23-D768-4321-A4EB-54848450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DB68-7D08-4A01-8BDD-4FA99FE4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040-C974-477A-88AD-F3CF2BC2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C803-717C-46FE-A724-52295EC9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0329-2CCA-48F3-9309-2C8DE76B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C48-0371-48D7-A12C-C5EFE9D5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CBE-34D6-46C3-B852-45420EB4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C69-707F-475B-9061-5908998B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A6B-BDFF-4D01-8C0C-6D93BD20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B1F5-B52E-4EFA-8C49-33A6CDD58E7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B57A-7E71-4005-8CD6-94A5468DA9F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xmlrpc.com/spec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java.sun.com/webservices/docs/ea2/tutorial/index.html" TargetMode="External"/><Relationship Id="rId2" Type="http://schemas.openxmlformats.org/officeDocument/2006/relationships/hyperlink" Target="http://java.sun.com/webservices/docs/ea2/tutorial/index.html" TargetMode="External"/><Relationship Id="rId3" Type="http://schemas.openxmlformats.org/officeDocument/2006/relationships/hyperlink" Target="http://java.sun.com/webservices/docs/ea2/tutorial/index.html" TargetMode="External"/><Relationship Id="rId4" Type="http://schemas.openxmlformats.org/officeDocument/2006/relationships/hyperlink" Target="http://java.sun.com/webservices/docs/ea2/tutorial/index.html" TargetMode="External"/><Relationship Id="rId5" Type="http://schemas.openxmlformats.org/officeDocument/2006/relationships/hyperlink" Target="http://java.sun.com/webservices/docs/ea2/tutorial/index.html" TargetMode="External"/><Relationship Id="rId6" Type="http://schemas.openxmlformats.org/officeDocument/2006/relationships/hyperlink" Target="http://java.sun.com/webservices/docs/ea2/tutorial/index.html" TargetMode="External"/><Relationship Id="rId7" Type="http://schemas.openxmlformats.org/officeDocument/2006/relationships/hyperlink" Target="http://java.sun.com/webservices/docs/ea2/tutorial/index.html" TargetMode="External"/><Relationship Id="rId8" Type="http://schemas.openxmlformats.org/officeDocument/2006/relationships/hyperlink" Target="http://java.sun.com/webservices/docs/ea2/tutorial/index.html" TargetMode="External"/><Relationship Id="rId9" Type="http://schemas.openxmlformats.org/officeDocument/2006/relationships/hyperlink" Target="http://java.sun.com/webservices/docs/ea2/tutorial/index.html" TargetMode="External"/><Relationship Id="rId10" Type="http://schemas.openxmlformats.org/officeDocument/2006/relationships/hyperlink" Target="http://java.sun.com/webservices/docs/ea2/tutorial/index.html" TargetMode="External"/><Relationship Id="rId11" Type="http://schemas.openxmlformats.org/officeDocument/2006/relationships/hyperlink" Target="http://java.sun.com/webservices/docs/ea2/tutorial/index.html" TargetMode="External"/><Relationship Id="rId12" Type="http://schemas.openxmlformats.org/officeDocument/2006/relationships/hyperlink" Target="http://java.sun.com/webservices/docs/ea2/tutorial/index.html" TargetMode="External"/><Relationship Id="rId13" Type="http://schemas.openxmlformats.org/officeDocument/2006/relationships/hyperlink" Target="http://java.sun.com/webservices/docs/ea2/tutorial/index.html" TargetMode="External"/><Relationship Id="rId14" Type="http://schemas.openxmlformats.org/officeDocument/2006/relationships/hyperlink" Target="http://java.sun.com/webservices/docs/ea2/tutorial/index.html" TargetMode="External"/><Relationship Id="rId15" Type="http://schemas.openxmlformats.org/officeDocument/2006/relationships/hyperlink" Target="http://java.sun.com/webservices/docs/ea2/tutorial/index.html" TargetMode="External"/><Relationship Id="rId16" Type="http://schemas.openxmlformats.org/officeDocument/2006/relationships/hyperlink" Target="http://java.sun.com/webservices/docs/ea2/tutorial/index.html" TargetMode="External"/><Relationship Id="rId17" Type="http://schemas.openxmlformats.org/officeDocument/2006/relationships/hyperlink" Target="http://www6.software.ibm.com/developerworks/education/wsbasics/index.html" TargetMode="External"/><Relationship Id="rId18" Type="http://schemas.openxmlformats.org/officeDocument/2006/relationships/hyperlink" Target="http://www6.software.ibm.com/developerworks/education/wsbasics/index.html" TargetMode="External"/><Relationship Id="rId19" Type="http://schemas.openxmlformats.org/officeDocument/2006/relationships/hyperlink" Target="http://www6.software.ibm.com/developerworks/education/wsbasics/index.html" TargetMode="External"/><Relationship Id="rId20" Type="http://schemas.openxmlformats.org/officeDocument/2006/relationships/hyperlink" Target="http://www6.software.ibm.com/developerworks/education/wsbasics/index.html" TargetMode="External"/><Relationship Id="rId21" Type="http://schemas.openxmlformats.org/officeDocument/2006/relationships/hyperlink" Target="http://www6.software.ibm.com/developerworks/education/wsbasics/index.html" TargetMode="External"/><Relationship Id="rId22" Type="http://schemas.openxmlformats.org/officeDocument/2006/relationships/hyperlink" Target="http://www6.software.ibm.com/developerworks/education/wsbasics/index.html" TargetMode="External"/><Relationship Id="rId23" Type="http://schemas.openxmlformats.org/officeDocument/2006/relationships/hyperlink" Target="http://www6.software.ibm.com/developerworks/education/wsbasics/index.html" TargetMode="External"/><Relationship Id="rId24" Type="http://schemas.openxmlformats.org/officeDocument/2006/relationships/hyperlink" Target="http://www6.software.ibm.com/developerworks/education/wsbasics/index.html" TargetMode="External"/><Relationship Id="rId25" Type="http://schemas.openxmlformats.org/officeDocument/2006/relationships/hyperlink" Target="http://www6.software.ibm.com/developerworks/education/wsbasics/index.html" TargetMode="External"/><Relationship Id="rId26" Type="http://schemas.openxmlformats.org/officeDocument/2006/relationships/hyperlink" Target="http://www6.software.ibm.com/developerworks/education/wsbasics/index.html" TargetMode="External"/><Relationship Id="rId27" Type="http://schemas.openxmlformats.org/officeDocument/2006/relationships/hyperlink" Target="http://www.oreillynet.com/lpt/a//webservices/2002/02/12/webservicefaqs.html" TargetMode="External"/><Relationship Id="rId28" Type="http://schemas.openxmlformats.org/officeDocument/2006/relationships/hyperlink" Target="http://www.oreillynet.com/lpt/a//webservices/2002/02/12/webservicefaqs.html" TargetMode="External"/><Relationship Id="rId29" Type="http://schemas.openxmlformats.org/officeDocument/2006/relationships/hyperlink" Target="http://www.oreillynet.com/lpt/a//webservices/2002/02/12/webservicefaqs.html" TargetMode="External"/><Relationship Id="rId30" Type="http://schemas.openxmlformats.org/officeDocument/2006/relationships/hyperlink" Target="http://www.oreillynet.com/lpt/a//webservices/2002/02/12/webservicefaqs.html" TargetMode="External"/><Relationship Id="rId31" Type="http://schemas.openxmlformats.org/officeDocument/2006/relationships/hyperlink" Target="http://www.oreillynet.com/lpt/a//webservices/2002/02/12/webservicefaqs.html" TargetMode="External"/><Relationship Id="rId32" Type="http://schemas.openxmlformats.org/officeDocument/2006/relationships/hyperlink" Target="http://www.oreillynet.com/lpt/a//webservices/2002/02/12/webservicefaqs.html" TargetMode="External"/><Relationship Id="rId33" Type="http://schemas.openxmlformats.org/officeDocument/2006/relationships/hyperlink" Target="http://www.oreillynet.com/lpt/a//webservices/2002/02/12/webservicefaqs.html" TargetMode="External"/><Relationship Id="rId34" Type="http://schemas.openxmlformats.org/officeDocument/2006/relationships/hyperlink" Target="http://www.oreillynet.com/lpt/a//webservices/2002/02/12/webservicefaqs.html" TargetMode="External"/><Relationship Id="rId35" Type="http://schemas.openxmlformats.org/officeDocument/2006/relationships/hyperlink" Target="http://www.oreillynet.com/lpt/a//webservices/2002/02/12/webservicefaqs.html" TargetMode="External"/><Relationship Id="rId36" Type="http://schemas.openxmlformats.org/officeDocument/2006/relationships/hyperlink" Target="http://www.oreillynet.com/lpt/a//webservices/2002/02/12/webservicefaqs.html" TargetMode="External"/><Relationship Id="rId37" Type="http://schemas.openxmlformats.org/officeDocument/2006/relationships/hyperlink" Target="http://www.oreillynet.com/lpt/a//webservices/2002/02/12/webservicefaqs.html" TargetMode="External"/><Relationship Id="rId38" Type="http://schemas.openxmlformats.org/officeDocument/2006/relationships/hyperlink" Target="http://www.oreillynet.com/lpt/a//webservices/2002/02/12/webservicefaqs.html" TargetMode="External"/><Relationship Id="rId39" Type="http://schemas.openxmlformats.org/officeDocument/2006/relationships/hyperlink" Target="http://www.oreillynet.com/lpt/a//webservices/2002/02/12/webservicefaqs.html" TargetMode="External"/><Relationship Id="rId40" Type="http://schemas.openxmlformats.org/officeDocument/2006/relationships/hyperlink" Target="http://www.oreillynet.com/lpt/a//webservices/2002/02/12/webservicefaqs.html" TargetMode="External"/><Relationship Id="rId41" Type="http://schemas.openxmlformats.org/officeDocument/2006/relationships/hyperlink" Target="http://www.w3.org/TR/wsdl" TargetMode="External"/><Relationship Id="rId42" Type="http://schemas.openxmlformats.org/officeDocument/2006/relationships/hyperlink" Target="http://www.w3.org/TR/wsdl" TargetMode="External"/><Relationship Id="rId43" Type="http://schemas.openxmlformats.org/officeDocument/2006/relationships/hyperlink" Target="http://www.w3.org/TR/soap12-part1/" TargetMode="External"/><Relationship Id="rId44" Type="http://schemas.openxmlformats.org/officeDocument/2006/relationships/hyperlink" Target="http://sms.jfiok.org/webservices/" TargetMode="External"/><Relationship Id="rId4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emo.alphaworks.ibm.com/browser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100" spc="-1" strike="noStrike">
                <a:solidFill>
                  <a:srgbClr val="c4c3aa"/>
                </a:solidFill>
                <a:latin typeface="Arial"/>
              </a:rPr>
              <a:t>Web Services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Wprowadzen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(Andrzej Chwedoruk, kwiecień 2005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Na czym bazują Web Services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rstwa transportu usług min.: HTTP, FTP, SMTP a także np. BEE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609480" y="2971800"/>
          <a:ext cx="8077320" cy="3124080"/>
        </p:xfrm>
        <a:graphic>
          <a:graphicData uri="http://schemas.openxmlformats.org/drawingml/2006/table">
            <a:tbl>
              <a:tblPr/>
              <a:tblGrid>
                <a:gridCol w="1614600"/>
                <a:gridCol w="1616040"/>
                <a:gridCol w="1616040"/>
                <a:gridCol w="1616040"/>
                <a:gridCol w="161460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rv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AP Mess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AP Mess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AP Mess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AP Mess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AP Mess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tocol Bin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tocol Bin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tocol Bin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tocol Bin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tocol Bin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TT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MTP</a:t>
                      </a: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P</a:t>
                      </a: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CP</a:t>
                      </a: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DP</a:t>
                      </a: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D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arstwa komunikacji XM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XML-RPC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XML-RPC = HTTP + XML + Remote Procedure Ca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Po przez HTTP P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Prosta alternatywa dla SOA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arstwa komunikacji XML c.d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XML-RP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Zapytani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?xml version="1.0" encoding="ISO-8859-1"?&gt; &lt;methodCall&gt; &lt;methodName&gt;weather.getWeather&lt;/methodName&gt; &lt;params&gt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param&gt;&lt;value&gt;10016&lt;/value&gt;&lt;/param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/params&gt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/methodCall&gt;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arstwa komunikacji XML c.d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XML-RP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Odpowiedź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?xml version="1.0" encoding="ISO-8859-1"?&gt; &lt;methodResponse&gt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params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param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value&gt;&lt;int&gt;65&lt;/int&gt;&lt;/value&gt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/param&gt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/params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/methodResponse&gt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arstwa komunikacji XML c.d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SOAP - Simple Object Access Protoc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Poprzez HTTP,FTP,SMTP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struktura SOAP-komunikatu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envelope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- opakowanie; jakaś tam przestrzeń nazw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header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(opcjonalny) -- dodatkowe informacj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body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- zawiera parametry wywołania / odpowiedź / informacje o błędach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arstwa komunikacji XML c.d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SOA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Ogólne zasady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Verdana"/>
              </a:rPr>
              <a:t>MUSI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być kodowany przy użyciu XML-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Verdana"/>
              </a:rPr>
              <a:t>MUSI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mieć element Envelop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Verdana"/>
              </a:rPr>
              <a:t>MOŻE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mieć element Heade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Verdana"/>
              </a:rPr>
              <a:t>MUSI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mieć element Bod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Verdana"/>
              </a:rPr>
              <a:t>MUSI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używać odpowiednich przestrzeni nazw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Verdana"/>
              </a:rPr>
              <a:t>NIE MOŻE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zawierać referencji do DT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Verdana"/>
              </a:rPr>
              <a:t>NIE MOŻE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zawierać instrukcji procesora XML-a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arstwa komunikacji XML c.d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SOA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Przykł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env:Envelope xmlns:env="http://www.w3.org/2001/06/soap-envelope" env:encodingStyle="http://www.w3.org/2001/06/soap-encoding"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env:Body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m:GetPrice xmlns:m="Some-URI"&gt;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Item&gt;Soap&lt;/Item&gt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/m:GetPrice&gt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/env:Body&gt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&lt;/env:Envelope&gt;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arstwa opisu usłu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WSDL – Web Services Description Langua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Zapewnia specyfikacje interfejsu usługi czyli min.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Informacje o dostępnych funkcjac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Typy danych wszystkich komunikatów XM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Informacje o dostępnych protokołac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Informacje o lokalizacji danej usługi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arstwa lokalizacji usłu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UDDI - Universal Description, Discovery, and Integratio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Dominujący standard lokalizacji usłu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Składa się z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Technicznej specyfikacji tworzenia rozproszonych katalogów usłu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W pełni funkcjonalnej implementacji dostarczanych specyfikacj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Warstwa lokalizacji usłu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UDD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Podział przechowywanych danych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White Pages: ogólne dane każdej firm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Yellow Pages: ogólna klasyfikac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Green Pages: techniczne da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Czym są Web Services 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Na czym bazują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Protokoły i standardy Web Serv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Warstwa komunikacj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Warstwa opisu usłu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Warstwa lokalizacji usłu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Wymagania dla Web Serv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Wymagania dla Web Service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zpieczeństw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arządzan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iezawodność i wydajnoś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bilność i dostępnoś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Jak zacząć z Web Services 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Specyfikacja XML-RPC </a:t>
            </a:r>
            <a:r>
              <a:rPr b="0" lang="pl-PL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www.xmlrpc.com/spe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WSDE - Web Services Development Environment (prod. IBM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Jak zacząć z Web Services 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zykła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1828800"/>
            <a:ext cx="84582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stocks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6197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Jak zacząć z Web Services 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Przykład 2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Tworzymy własny Web Service przy użyciu Visual Studio .N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Web Service będzie zestaw 6 losowych numerów LOTTO pomiędzy 1 a 49, z liczbami zmieniającymi się przy każdym dostępie do usług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2590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Architektura Web Service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54764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762120" y="762120"/>
          <a:ext cx="6781680" cy="63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6781680" cy="63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  <a:ea typeface="Times New Roman"/>
              </a:rPr>
              <a:t>Lokalna sie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ć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  <a:ea typeface="Times New Roman"/>
              </a:rPr>
              <a:t> znajduj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ą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  <a:ea typeface="Times New Roman"/>
              </a:rPr>
              <a:t>ca si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ę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  <a:ea typeface="Times New Roman"/>
              </a:rPr>
              <a:t> na brzegu sieci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54764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533520" y="609480"/>
          <a:ext cx="7010280" cy="661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7010280" cy="661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  <a:ea typeface="Times New Roman"/>
              </a:rPr>
              <a:t>Lokalna sie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ć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z pełnym dostępem do Internetu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Źródła informacji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Sun's Tutorial to Web Services:</a:t>
            </a:r>
            <a:br>
              <a:rPr sz="2400"/>
            </a:b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java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.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sun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.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com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webservices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docs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/ea2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tutorial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index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15"/>
              </a:rPr>
              <a:t>.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16"/>
              </a:rPr>
              <a:t>html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IBM WS tutorial:</a:t>
            </a:r>
            <a:br>
              <a:rPr sz="2400"/>
            </a:b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17"/>
              </a:rPr>
              <a:t>http://www6.software.ibm.com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18"/>
              </a:rPr>
              <a:t>developerworks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19"/>
              </a:rPr>
              <a:t>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20"/>
              </a:rPr>
              <a:t>education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21"/>
              </a:rPr>
              <a:t>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22"/>
              </a:rPr>
              <a:t>wsbasics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23"/>
              </a:rPr>
              <a:t>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24"/>
              </a:rPr>
              <a:t>index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25"/>
              </a:rPr>
              <a:t>.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26"/>
              </a:rPr>
              <a:t>html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O'Reilly web service FAQ:</a:t>
            </a:r>
            <a:br>
              <a:rPr sz="2400"/>
            </a:b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27"/>
              </a:rPr>
              <a:t>http:/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28"/>
              </a:rPr>
              <a:t>www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29"/>
              </a:rPr>
              <a:t>.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30"/>
              </a:rPr>
              <a:t>oreillynet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31"/>
              </a:rPr>
              <a:t>.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32"/>
              </a:rPr>
              <a:t>com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33"/>
              </a:rPr>
              <a:t>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34"/>
              </a:rPr>
              <a:t>lpt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35"/>
              </a:rPr>
              <a:t>/a/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36"/>
              </a:rPr>
              <a:t>webservices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37"/>
              </a:rPr>
              <a:t>/2002/02/12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38"/>
              </a:rPr>
              <a:t>webservicefaqs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39"/>
              </a:rPr>
              <a:t>.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40"/>
              </a:rPr>
              <a:t>html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41"/>
              </a:rPr>
              <a:t>http://www.w3.org/TR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42"/>
              </a:rPr>
              <a:t>wsdl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43"/>
              </a:rPr>
              <a:t>http://www.w3.org/TR/soap12-part1/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Verdana"/>
                <a:hlinkClick r:id="rId44"/>
              </a:rPr>
              <a:t>http://sms.jfiok.org/webservices/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Źródła informacji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Podstawy Microsoft .NET” – David S. Platt, RM, 200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ASP .NET Kurs Podstawowy” – Dave Mercer, Edition 2000, 200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ymagania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na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rchitektur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ę 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ystemów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eb Services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” – Raport Huberta Trzewik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Jak zacząć z Web Service’ami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Bezpieczeństw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Zarządzan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Niezawodność i wydajnoś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Mobilność i dostępnoś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Przykład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Architektura Web Servi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Źródła informacj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Czym są Web Services 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Definicj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"usługa brana z sieci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"zorientowane na usługi podejście projektanckie bazujące na idei budowania aplikacji poprzez odkrywanie i udost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nianie serwisów sieciowych oraz integracji aplikacji na zasadzie just-in-time."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Czym są Web Services 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Wykorzystanie 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Niezależność platformow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Rozwinięcie programowania obiektoweg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Publiczny interfej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Uniwersalne publikowanie i lokalizowan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Czym są Web Services c.d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Innowacje w Web Servic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Całość komunikacji – 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Niezależność od protokołu przesyłu dany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Całkowita standaryzac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Czym są Web Services c.d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e jak to wygląda w „praniu” 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starczyciele usług 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jestrują si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 pośredników (UDDI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lient 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yt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p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dnika, kto mu da d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(SOAP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dnik (broker) - lokalizuje mu 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 podaje opis jej 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cia (WSDL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lien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ł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za s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do dostarczyciela i korzysta z 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gi (SOAP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Czym są Web Services c.d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Ale jak to wygląda w „praniu” ? cd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Przykłady  proste i nie tylko </a:t>
            </a:r>
            <a:r>
              <a:rPr b="0" lang="pl-PL" sz="32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demo.alphaworks.ibm.com/browser/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min.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Serwis pogodow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Własny mini-portal informacyjn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8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4c3aa"/>
                </a:solidFill>
                <a:latin typeface="Arial"/>
              </a:rPr>
              <a:t>Na czym bazują Web Services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rstwa komunikacji XML: XML-RPC, SOA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rstwa opisu usług: WSD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rstwa lokalizacji usług: UDD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9:48:38Z</dcterms:created>
  <dc:creator>SzuS</dc:creator>
  <dc:description/>
  <dc:language>en-US</dc:language>
  <cp:lastModifiedBy>andre</cp:lastModifiedBy>
  <dcterms:modified xsi:type="dcterms:W3CDTF">2005-04-14T20:19:18Z</dcterms:modified>
  <cp:revision>34</cp:revision>
  <dc:subject/>
  <dc:title>Web Services</dc:title>
</cp:coreProperties>
</file>