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662560" y="2403360"/>
            <a:ext cx="47570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stęp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gramowania d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42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725040" y="640872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292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01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306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anifest wtyczk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12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982800" y="1969920"/>
            <a:ext cx="832932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zykł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&lt;plu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name="JUnit Testing Framework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id="org.junit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version="3.7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provider-name="Eclipse.org"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&lt;run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&lt;library name="junit.jar"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&lt;export name="*"/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&lt;/librar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&lt;/run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&lt;/plugin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320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29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34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Aktywacja wtycze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40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53960" y="1996920"/>
            <a:ext cx="8074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tyczka staje się aktywna tylko kiedy zaistnieje potrzeba uruchomienia jej k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3840" y="3284640"/>
            <a:ext cx="84992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aktywniona wtyczka wie z rejestru o wszystkich wtyczkach rozszerzających deklarowane przez nią punkty rozsze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8000" y="5010120"/>
            <a:ext cx="9056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z uaktywniona wtyczka będzie aktywna aż do zamknięcia Platformy 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350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359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364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Rozszerzanie wtycze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370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87280" y="1573200"/>
            <a:ext cx="920772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ifest deklaruje powiązania z innymi wtyczkami jak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zbiór wymaganych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punktów rozszerzeń (extension points) - w któr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żna rozszerzyć funkcjonalność wty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* rozszerzeń (extensions) do punktów rozszerzeń in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tycz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7280" y="419400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nkty rozszerzeń muszą definiować pewne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7280" y="4832280"/>
            <a:ext cx="92156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ażda wtyczka może definiować kolejne API dostępne dla nowych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280" y="5869080"/>
            <a:ext cx="819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tyczka może mieć wiele punktów rozsze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7280" y="6508800"/>
            <a:ext cx="8623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den punkt rozszerzenia może być rozszerzany przez wiele innych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382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391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396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01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444920" y="604800"/>
            <a:ext cx="5216760" cy="39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plugin id: org.eclipse.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43520" y="1135080"/>
            <a:ext cx="4354560" cy="39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class: WorkbenchPlu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09600" y="1587600"/>
            <a:ext cx="3265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tyczka rozszerz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57360" y="2465280"/>
            <a:ext cx="2797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nkty rozszerze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0840" y="3765600"/>
            <a:ext cx="2041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tyczka rozszerzają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319800" y="2087640"/>
            <a:ext cx="1255680" cy="746640"/>
            <a:chOff x="6319800" y="2087640"/>
            <a:chExt cx="1255680" cy="746640"/>
          </a:xfrm>
        </p:grpSpPr>
        <p:sp>
          <p:nvSpPr>
            <p:cNvPr id="411" name=""/>
            <p:cNvSpPr/>
            <p:nvPr/>
          </p:nvSpPr>
          <p:spPr>
            <a:xfrm>
              <a:off x="6319800" y="2087640"/>
              <a:ext cx="1255680" cy="427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fffff"/>
                  </a:solidFill>
                  <a:latin typeface="Arial"/>
                </a:rPr>
                <a:t>vie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1016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97800" y="2523960"/>
              <a:ext cx="22680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85080" y="2523960"/>
              <a:ext cx="22680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2720" y="2494080"/>
              <a:ext cx="229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937640" y="2087640"/>
            <a:ext cx="1481040" cy="746640"/>
            <a:chOff x="7937640" y="2087640"/>
            <a:chExt cx="1481040" cy="746640"/>
          </a:xfrm>
        </p:grpSpPr>
        <p:sp>
          <p:nvSpPr>
            <p:cNvPr id="417" name=""/>
            <p:cNvSpPr/>
            <p:nvPr/>
          </p:nvSpPr>
          <p:spPr>
            <a:xfrm>
              <a:off x="7937640" y="2087640"/>
              <a:ext cx="1481040" cy="427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fffff"/>
                  </a:solidFill>
                  <a:latin typeface="Arial"/>
                </a:rPr>
                <a:t>actionS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2800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528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0256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90200" y="2494080"/>
              <a:ext cx="229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718160" y="2087640"/>
            <a:ext cx="1255680" cy="746640"/>
            <a:chOff x="4718160" y="2087640"/>
            <a:chExt cx="1255680" cy="746640"/>
          </a:xfrm>
        </p:grpSpPr>
        <p:sp>
          <p:nvSpPr>
            <p:cNvPr id="423" name=""/>
            <p:cNvSpPr/>
            <p:nvPr/>
          </p:nvSpPr>
          <p:spPr>
            <a:xfrm>
              <a:off x="4718160" y="2087640"/>
              <a:ext cx="1255680" cy="427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fffff"/>
                  </a:solidFill>
                  <a:latin typeface="Arial"/>
                </a:rPr>
                <a:t>edi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852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94360" y="2523960"/>
              <a:ext cx="22680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8164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69280" y="2494080"/>
              <a:ext cx="229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5337000" y="1814400"/>
            <a:ext cx="1800" cy="2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08760" y="1814400"/>
            <a:ext cx="1800" cy="2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47200" y="1814400"/>
            <a:ext cx="1440" cy="2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28840" y="3371760"/>
            <a:ext cx="7105680" cy="39744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plugin id: org.eclipse.help.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79680" y="3824280"/>
            <a:ext cx="4595760" cy="39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class: WorkbenchHelpPlu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90640" y="4792680"/>
            <a:ext cx="6486840" cy="39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extension: action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9120" y="5307120"/>
            <a:ext cx="5790960" cy="39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class: HelpContent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5080" y="5654520"/>
            <a:ext cx="6123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on callback: Help-&gt;Help Contents menu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0560" y="6273720"/>
            <a:ext cx="5791320" cy="39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class: OpenHelpSearchPag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91040" y="6637320"/>
            <a:ext cx="6122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on callback: Search-&gt;Help menu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8148600" y="2658600"/>
            <a:ext cx="1800" cy="21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1680" y="5246640"/>
            <a:ext cx="1844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zszerzen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783440" y="2509920"/>
            <a:ext cx="6516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rzykłady rozszerze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68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9253440" y="5994360"/>
            <a:ext cx="827280" cy="1567080"/>
            <a:chOff x="9253440" y="5994360"/>
            <a:chExt cx="827280" cy="1567080"/>
          </a:xfrm>
        </p:grpSpPr>
        <p:sp>
          <p:nvSpPr>
            <p:cNvPr id="444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25344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455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64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69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Aplikacj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7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681120" y="1895400"/>
            <a:ext cx="8512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latform Runtim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eklaruje specjalne punkty rozszerzeń dla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5280" y="3063960"/>
            <a:ext cx="8557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ruchamiając instancję platformy, jako parametr linii poleceń przekazujemy nazwę aplikacji - jedyna uaktywniona na starcie wtyczka będzie ta deklarująca podana aplik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5400" y="5127480"/>
            <a:ext cx="819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 ten sposób zaimplementowano poszczególne składowe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3360" y="2174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9252000" y="5994360"/>
            <a:ext cx="828720" cy="1568520"/>
            <a:chOff x="9252000" y="5994360"/>
            <a:chExt cx="828720" cy="1568520"/>
          </a:xfrm>
        </p:grpSpPr>
        <p:sp>
          <p:nvSpPr>
            <p:cNvPr id="486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9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00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Project n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506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74560" y="16700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lipse działa na projek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4560" y="240048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yższy mechanizm (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roject nat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 pozwala przypisać projektowi zbiór "osobowośc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4560" y="3527280"/>
            <a:ext cx="8190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zykład takich ce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 statycznych stron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 programu w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 wtyczki dla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3360" y="2174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4560" y="544680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ażdy projekt może mieć jednocześnie wiele takich "osobowośc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4560" y="657396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tyczki pozwalają na dodawanie kolejnych rodzajów cech projektów, wraz z ich obsługą czy konfigura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519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28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33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echanizm znacznikó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39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968400" y="2455920"/>
            <a:ext cx="8512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naczniki służą trzymaniu przeróżnych opisów i oznaczeń, np. miejsc błędów kompilacji, list TO-DO, poszukiwanych fragmentów, czy punktów przerwań przy debugow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3360" y="2192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7560" y="478152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chanizm znaczników jest w Eclipse otwarty - wtyczki mogą deklarować dowolna ich ilość i rod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549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58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563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echanizm śledzen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69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771480" y="1987560"/>
            <a:ext cx="8512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lipse udostępnia mechanizm śledzenia wszelkich zmian w zasobach projek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33360" y="2192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5160" y="3209760"/>
            <a:ext cx="8558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jestrując odpowiednią klas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listen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'a wtyczka ma gwarancje otrzymania wiadomości gdy użytkownik stworzy, zmieni lub usunie jakiś zasób z projektu (nawet z poza aplikacji Eclipse'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1360" y="5356080"/>
            <a:ext cx="8557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chanizm może działać przekazując informacje zarówno o zmianie jednego tylko zasobu, jak i całego drzewo zasobów które uległy zmianie jednocześ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580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252000" y="705168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589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594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SW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600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360440" y="2046240"/>
            <a:ext cx="8512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clipse UI (wszystkie jego wbudowane wtyczki) używają SW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3360" y="2192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304632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 porównaniu: AWT wprowadza niskopoziomowe kontrolki, ale nie wprowadza wysokopozi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0360" y="4044960"/>
            <a:ext cx="10220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 porównaniu ze Swing'iem - ten emuluje wysokopoziomowe kontrolki, wprowadzając emulacje look and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0480" y="144468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ternatywa dla AWT i Swing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65320" y="5045040"/>
            <a:ext cx="8496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WT wykorzystuje specyficzne możliwości systemów, takie jak drag&amp;drop, czy Activ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4560" y="6043680"/>
            <a:ext cx="9358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aimplementowany w Javie, dla każdego systemu osobno - na to jest nałożona OS-niezależne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0840" y="7042320"/>
            <a:ext cx="1008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zywiście wtyczki nadal mogą używać AWT lub Swing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776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clipse – co 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54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25040" y="640872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1200240"/>
            <a:ext cx="3780000" cy="301680"/>
            <a:chOff x="0" y="1200240"/>
            <a:chExt cx="3780000" cy="301680"/>
          </a:xfrm>
        </p:grpSpPr>
        <p:sp>
          <p:nvSpPr>
            <p:cNvPr id="63" name=""/>
            <p:cNvSpPr/>
            <p:nvPr/>
          </p:nvSpPr>
          <p:spPr>
            <a:xfrm>
              <a:off x="360360" y="120024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2280" y="1828800"/>
            <a:ext cx="9421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utorzy nazwali to "otwartą platformą do integracji narzędz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47000" y="2600280"/>
            <a:ext cx="661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zszerzalna platforma do budowania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8160" y="3371760"/>
            <a:ext cx="87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 założenia: wielo-językowa, wielo-platformowa, wiel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76800" y="4141800"/>
            <a:ext cx="6752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pisana całkowicie w Javie (poza jądr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9760" y="5683320"/>
            <a:ext cx="3544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cencja na kod to C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7840" y="4853160"/>
            <a:ext cx="85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zwijana przez Eclipse Foundation (www.eclipse.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568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086760" y="8892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9253440" y="5996160"/>
            <a:ext cx="827280" cy="1568160"/>
            <a:chOff x="9253440" y="5996160"/>
            <a:chExt cx="827280" cy="1568160"/>
          </a:xfrm>
        </p:grpSpPr>
        <p:sp>
          <p:nvSpPr>
            <p:cNvPr id="615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371160" y="718020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253440" y="705168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844200" y="666900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44200" y="743580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624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0" y="1204920"/>
            <a:ext cx="3780000" cy="299880"/>
            <a:chOff x="0" y="1204920"/>
            <a:chExt cx="3780000" cy="299880"/>
          </a:xfrm>
        </p:grpSpPr>
        <p:sp>
          <p:nvSpPr>
            <p:cNvPr id="629" name=""/>
            <p:cNvSpPr/>
            <p:nvPr/>
          </p:nvSpPr>
          <p:spPr>
            <a:xfrm>
              <a:off x="360360" y="120492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J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635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333360" y="2192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3600" y="3030480"/>
            <a:ext cx="855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ezależny od systemu wyświetl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3600" y="3732120"/>
            <a:ext cx="6470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acuje z SWT bez ukrywania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3600" y="1535040"/>
            <a:ext cx="9358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fejs użytkownika do obsługi obrazków, fontów, dialogów, okienek preferencji, dialogów postępu, kreatorów, oraz dwóch dodatkowych: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ctio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3600" y="4433760"/>
            <a:ext cx="9072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tions - definiują akcje przypisane guziczkom, polom menu czy ikonkom pasków narzęd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3600" y="5532480"/>
            <a:ext cx="9358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iewers - wprowadzają jeszcze bardziej wysokopoziomowe kontrolki niż SWT (standardowo rozszerzają pola tekstowe, listy, drzewa i tabel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3600" y="7027920"/>
            <a:ext cx="1008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zywiście wiele punktów rozszerzeń do wykorzys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85680" y="8892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86760" y="8892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0" y="1204920"/>
            <a:ext cx="3780000" cy="299880"/>
            <a:chOff x="0" y="1204920"/>
            <a:chExt cx="3780000" cy="299880"/>
          </a:xfrm>
        </p:grpSpPr>
        <p:sp>
          <p:nvSpPr>
            <p:cNvPr id="649" name=""/>
            <p:cNvSpPr/>
            <p:nvPr/>
          </p:nvSpPr>
          <p:spPr>
            <a:xfrm>
              <a:off x="360360" y="120492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0" y="1204920"/>
            <a:ext cx="3780000" cy="299880"/>
            <a:chOff x="0" y="1204920"/>
            <a:chExt cx="3780000" cy="299880"/>
          </a:xfrm>
        </p:grpSpPr>
        <p:sp>
          <p:nvSpPr>
            <p:cNvPr id="654" name=""/>
            <p:cNvSpPr/>
            <p:nvPr/>
          </p:nvSpPr>
          <p:spPr>
            <a:xfrm>
              <a:off x="360360" y="120492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orkbe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0" y="1204920"/>
            <a:ext cx="3780000" cy="299880"/>
            <a:chOff x="0" y="1204920"/>
            <a:chExt cx="3780000" cy="299880"/>
          </a:xfrm>
        </p:grpSpPr>
        <p:sp>
          <p:nvSpPr>
            <p:cNvPr id="660" name=""/>
            <p:cNvSpPr/>
            <p:nvPr/>
          </p:nvSpPr>
          <p:spPr>
            <a:xfrm>
              <a:off x="360360" y="120492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33360" y="22068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3360" y="253224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budowany wykorzystując SWT i JFace, nie używając AWT ani Swing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7520" y="3462480"/>
            <a:ext cx="858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łada się 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3600" y="1535040"/>
            <a:ext cx="9358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finiuje ogólny, popularnie znany wygląd Eclipse'a - strukturę w jakiej narzędzia ze sobą współdziała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0960" y="3892680"/>
            <a:ext cx="9342360" cy="2238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- edy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umożliwiają otwieranie, modyfikacje i zapis obiektó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ktywne umożliwiają korzystanie z akcji menu i pasków zadań Workbench'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jadro Eclipse'a udostępnia prosty edytor tekstowy, inne edytory są zasługą wtycz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0960" y="4317840"/>
            <a:ext cx="9342360" cy="2238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- wido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prowadzają informacje o obiektach na których pracuje użytkowni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umożliwiają szybkie uzyskanie informacji o bieżącym obiekc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zmiany wprowadzone do widoku są zapisywane niemal automatyczn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960" y="4727520"/>
            <a:ext cx="9342360" cy="2606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- perspekty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orkbench może mieć wiele perspektyw, ale tylko jedna widoczna w danym momenc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osiada własne edytory i widoki, wraz z ich specyficznym ułożeni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budowane perspektywy: ogólna nawigacja, pomoc online, praca grupowa (np. CV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36440" y="5186520"/>
            <a:ext cx="9929880" cy="2268360"/>
            <a:chOff x="136440" y="5186520"/>
            <a:chExt cx="9929880" cy="2268360"/>
          </a:xfrm>
        </p:grpSpPr>
        <p:sp>
          <p:nvSpPr>
            <p:cNvPr id="672" name=""/>
            <p:cNvSpPr/>
            <p:nvPr/>
          </p:nvSpPr>
          <p:spPr>
            <a:xfrm>
              <a:off x="136440" y="5186520"/>
              <a:ext cx="9929880" cy="2268360"/>
            </a:xfrm>
            <a:prstGeom prst="roundRect">
              <a:avLst>
                <a:gd name="adj" fmla="val 6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7520" y="5457960"/>
              <a:ext cx="8693280" cy="1190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wtyczki mogą zarówno dodawać nowe edytory, widoki i perspektywy, jak i rozszerzać te istniejące (dodawać akcje do widoków, pola menu czy pop-up'ow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9253440" y="5997600"/>
            <a:ext cx="827280" cy="1566720"/>
            <a:chOff x="9253440" y="5997600"/>
            <a:chExt cx="827280" cy="1566720"/>
          </a:xfrm>
        </p:grpSpPr>
        <p:sp>
          <p:nvSpPr>
            <p:cNvPr id="675" name=""/>
            <p:cNvSpPr/>
            <p:nvPr/>
          </p:nvSpPr>
          <p:spPr>
            <a:xfrm>
              <a:off x="9607680" y="692460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371160" y="718020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844200" y="599760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253440" y="705168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844200" y="666900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844200" y="743580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76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725040" y="640872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8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0" y="34776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clipse Found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1200240"/>
            <a:ext cx="3780000" cy="301680"/>
            <a:chOff x="0" y="1200240"/>
            <a:chExt cx="3780000" cy="301680"/>
          </a:xfrm>
        </p:grpSpPr>
        <p:sp>
          <p:nvSpPr>
            <p:cNvPr id="91" name=""/>
            <p:cNvSpPr/>
            <p:nvPr/>
          </p:nvSpPr>
          <p:spPr>
            <a:xfrm>
              <a:off x="360360" y="120024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85880" y="1995480"/>
            <a:ext cx="8785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rland, IBM, MERANT, QNX Software Syste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ational Software, Red Hat, SuSE, TogetherSof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38520" y="2283840"/>
            <a:ext cx="97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1480" y="3251160"/>
            <a:ext cx="9072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rena, Sybase, Fujitsu, Hitachi, Instantiations, MontaVista, Scapa Technologies, Telelogic, ETRI, HP, MKS, SlickEdit, Oracle, Catalyst Systems, Flashline, Parasoft, SAP, teamstudio, TimeS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38520" y="3538080"/>
            <a:ext cx="97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929120"/>
            <a:ext cx="885996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 Management Group (OMG), Fraunhofer Institute, Ericsson, LogicLibrary, M7 Corpororation, QA Systems, SilverMark Inc, Advanced Systems Concepts, Genuitec, INNOOPRACT Informationssysteme GmbH, CanyonBlue, Ensemble Systems, Intel, Micro Focus, Tensilica and Wasa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8520" y="5216040"/>
            <a:ext cx="97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8640" y="1512720"/>
            <a:ext cx="3976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ard of Stewe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105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14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34776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clipse Found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20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22320" y="1844640"/>
            <a:ext cx="87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BM wypuszcza platformę Eclipse jako Open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95760" y="2131560"/>
            <a:ext cx="97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06480" y="2449440"/>
            <a:ext cx="907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ard of Stewards przekształca ją w nie-profitową organ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3960" y="3735360"/>
            <a:ext cx="88599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ecnie zarząd to cztery klasy członkowsk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Strategic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Strategic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Add-in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Open Source project l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131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40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4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clipse – co z tym można zrobi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51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3200" y="1677960"/>
            <a:ext cx="6610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prowadzanie nowych rodzajów zasob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nowe języki programowania na przykł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4280" y="2629080"/>
            <a:ext cx="9663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worzyć format podświetlania składni języka o nawet wymyślonej gramaty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0200" y="3579840"/>
            <a:ext cx="9428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ykorzystywać/tworzyć parser'y kodu wielu języków do własnych cel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120" y="4529160"/>
            <a:ext cx="9717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żywać API graficznego specjalnie przygotowanego pod narzędzia programistycz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60" y="6094440"/>
            <a:ext cx="9036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worzyć analizatory i kompilatory własnych języków czy nakładek na nie (jak np. aspek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6520" y="5479920"/>
            <a:ext cx="826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rdzo szybko i prosto tworzyć rozszerzalne edy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41040" y="7045200"/>
            <a:ext cx="342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 wiele, wiele innych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165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74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179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Eclipse – podstaw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8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47800" y="1557360"/>
            <a:ext cx="6394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Eclipse runtim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ub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Eclipse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jądro zarządzające wtycz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960" y="2579760"/>
            <a:ext cx="8499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wtyczk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ub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plug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najmniejszy moduł, jednostka funkcyjna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0840" y="3602160"/>
            <a:ext cx="9705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adanie jadra - synchronizacja wielu narzędzi współpracujących razem przy zadaniach programisty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4680" y="4624560"/>
            <a:ext cx="85262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rzędzia te upakowane sa w plug-in'y spełniające odpowiednie założenia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39840" y="6669000"/>
            <a:ext cx="8556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erwotnie wraz z Eclipse'm jest dostarczany zestaw wtyczek (m.in. pomagający tworzyć nowe wtycz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8800" y="5646600"/>
            <a:ext cx="9258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dstawowy mechanizm rozszerzający Eclipse'a zakłada ze nowe wtyczki mogą rozszerzać te juz istnieją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198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07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12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dea wtycze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18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78000" y="1784520"/>
            <a:ext cx="8073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jmniejsza jednostka funkcyjna Platformy 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8000" y="2540160"/>
            <a:ext cx="8499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że być rozprowadzana zupełnie osob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000" y="3295800"/>
            <a:ext cx="9705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jedyncza wtyczka umieszczona jest w osobnym katalogu lub URL'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" y="4446720"/>
            <a:ext cx="85262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że zawierać archiwa .jar z kodem Java, obrazki, wzorce, listy wiadomości, kod natywny, i różne inne zasoby (tylko do czytan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000" y="5996160"/>
            <a:ext cx="902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dyne ograniczenie - wtyczki są ładowane przy starcie Eclipse'a i w czasie działanie nie można juz dodać nowych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252000" y="5994360"/>
            <a:ext cx="828720" cy="1568520"/>
            <a:chOff x="9252000" y="5994360"/>
            <a:chExt cx="828720" cy="1568520"/>
          </a:xfrm>
        </p:grpSpPr>
        <p:sp>
          <p:nvSpPr>
            <p:cNvPr id="230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39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244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Budowa wtyczk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50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17520" y="1633680"/>
            <a:ext cx="8074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ażda zainstalowana wtyczka ma swój podkatalog w katalogu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plugi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sta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7520" y="2739960"/>
            <a:ext cx="8499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wnątrz działającego Eclipse'a każda wtyczka jest reprezentowana przez obiekt klasy dziedziczącej z 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org.eclipse.core.run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7520" y="4178160"/>
            <a:ext cx="9705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ktywacja wtyczk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znacza załadowanie i zainicjowanie obiektu jej kla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7520" y="5284800"/>
            <a:ext cx="8526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iektami klas wtyczek zarządza jadro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7520" y="5996160"/>
            <a:ext cx="902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ażda wtyczka jest opisana w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anifeśc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GB" sz="2600" spc="-1" strike="noStrike">
                <a:solidFill>
                  <a:srgbClr val="ffffff"/>
                </a:solidFill>
                <a:latin typeface="Lucida Console"/>
              </a:rPr>
              <a:t>plugin.xm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 - jest w nim wszystko co powinien wiedzieć Eclipse aby uaktywnić wtyczk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262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271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276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Manifest wtyczk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282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57040" y="5629320"/>
            <a:ext cx="953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ifest wtyczki jest dostępny bez aktywacji samej wty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000" y="1773360"/>
            <a:ext cx="893448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zawiera m.in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zwę i wersję wty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kalny id wty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stę zasob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iązania z innymi wtyczkami (wymagane wtycz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nkty w których wtyczka może być rozszerzona (tzw.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extension poin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nkty w których wtyczka rozszerza inne wtyczki (tzw.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extensio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7040" y="6269040"/>
            <a:ext cx="689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jestr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 Mazur</dc:creator>
  <dc:description/>
  <dc:language>en-US</dc:language>
  <cp:lastModifiedBy>Adam Mazur</cp:lastModifiedBy>
  <cp:revision>0</cp:revision>
  <dc:subject/>
  <dc:title/>
</cp:coreProperties>
</file>