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63640" indent="-2872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528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7280" indent="-2160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25400" y="1942560"/>
            <a:ext cx="8607600" cy="23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Trudności przy refaktoryzacji</a:t>
            </a:r>
            <a:br>
              <a:rPr sz="5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 przykładzie języka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09480" y="6373800"/>
            <a:ext cx="9193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aczerpnięte z pracy magisterskiej Adama Kież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http://rainbow.mimuw.edu.pl/SR/prace-mgr/kiezun/spis.htm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zestrzenie nazw typów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2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3960" y="482760"/>
            <a:ext cx="3540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trzenie nazw typ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2079720"/>
            <a:ext cx="913428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zwy proste (np. </a:t>
            </a: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Objec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 i unikatowe kanoniczne (np. </a:t>
            </a: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java.lang.Objec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600" y="3139920"/>
            <a:ext cx="913428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zwy proste przeważają w kodzie (wygoda, czytelność kod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" y="4232160"/>
            <a:ext cx="913428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śli w którymś fragmencie kodu występują dwie takie same nazwy prost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4000" y="5303880"/>
            <a:ext cx="848988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zwa jednego z tych typów przesłania (lub ukrywa) pozostał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wie lub więcej nazw pozostaje w konflikcie i powstaje błąd kompil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klaracje importu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3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3960" y="482760"/>
            <a:ext cx="3540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trzenie nazw typ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" y="2008080"/>
            <a:ext cx="9134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celu użycia nazwy prostej trzeba wczesniej zaimportować dany ty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600" y="2998800"/>
            <a:ext cx="9134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 pojedynczego typu (pełna nazwa typu: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akiet.nadtypy.ty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lub import na zadanie (pakiet z końcówką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.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" y="4462560"/>
            <a:ext cx="9134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 na żądanie nigdy nie przesłania żadnych deklaracji, natomiast import pojedynczego typu przesłania deklaracje typów importowanych na żądanie oraz typów importowanych domyśl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" y="6365880"/>
            <a:ext cx="9134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śli odniesienia nie są jednoznaczne, to zgłaszany jest błąd kompi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96880" y="4843440"/>
            <a:ext cx="3503520" cy="2417760"/>
          </a:xfrm>
          <a:prstGeom prst="roundRect">
            <a:avLst>
              <a:gd name="adj" fmla="val 65"/>
            </a:avLst>
          </a:prstGeom>
          <a:solidFill>
            <a:srgbClr val="ffff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6040" y="4775040"/>
            <a:ext cx="1787400" cy="333360"/>
          </a:xfrm>
          <a:prstGeom prst="roundRect">
            <a:avLst>
              <a:gd name="adj" fmla="val 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280" y="3500280"/>
            <a:ext cx="3516120" cy="1071720"/>
          </a:xfrm>
          <a:prstGeom prst="roundRect">
            <a:avLst>
              <a:gd name="adj" fmla="val 148"/>
            </a:avLst>
          </a:prstGeom>
          <a:solidFill>
            <a:srgbClr val="ffff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3440" y="3357720"/>
            <a:ext cx="1446120" cy="333360"/>
          </a:xfrm>
          <a:prstGeom prst="roundRect">
            <a:avLst>
              <a:gd name="adj" fmla="val 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4280" y="2082960"/>
            <a:ext cx="3516120" cy="1071360"/>
          </a:xfrm>
          <a:prstGeom prst="roundRect">
            <a:avLst>
              <a:gd name="adj" fmla="val 148"/>
            </a:avLst>
          </a:prstGeom>
          <a:solidFill>
            <a:srgbClr val="ffff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3440" y="1941480"/>
            <a:ext cx="1409400" cy="333360"/>
          </a:xfrm>
          <a:prstGeom prst="roundRect">
            <a:avLst>
              <a:gd name="adj" fmla="val 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mport - przykład zachowania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0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3960" y="482760"/>
            <a:ext cx="3540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trzenie nazw typ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37800" y="1249200"/>
            <a:ext cx="374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" y="1928880"/>
            <a:ext cx="317052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808080"/>
                </a:solidFill>
                <a:latin typeface="Arial"/>
              </a:rPr>
              <a:t>"A.java"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package p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public class A{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808080"/>
                </a:solidFill>
                <a:latin typeface="Arial"/>
              </a:rPr>
              <a:t>"B.java"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package p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public class B{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808080"/>
                </a:solidFill>
                <a:latin typeface="Arial"/>
              </a:rPr>
              <a:t>"Test.java"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package tes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import p1.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import p2.B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class Test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B b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87800" y="2273400"/>
            <a:ext cx="4500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mieńmy nazwę typu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wraz z aktualizacją odniesień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196800" y="4143240"/>
            <a:ext cx="6267960" cy="2380680"/>
            <a:chOff x="3196800" y="4143240"/>
            <a:chExt cx="6267960" cy="2380680"/>
          </a:xfrm>
        </p:grpSpPr>
        <p:sp>
          <p:nvSpPr>
            <p:cNvPr id="187" name=""/>
            <p:cNvSpPr/>
            <p:nvPr/>
          </p:nvSpPr>
          <p:spPr>
            <a:xfrm>
              <a:off x="4964040" y="4143240"/>
              <a:ext cx="4500720" cy="23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trzymamy błąd kompilacji w pliku 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Test.jav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- który importuje wówczas (import pojedynczego typu) dwa typy o tej samej nazwie prostej (tj.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3196800" y="5603760"/>
              <a:ext cx="1676520" cy="41760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3222720" y="5920920"/>
              <a:ext cx="1636560" cy="10476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06440" y="4537080"/>
            <a:ext cx="8204040" cy="2773440"/>
          </a:xfrm>
          <a:prstGeom prst="roundRect">
            <a:avLst>
              <a:gd name="adj" fmla="val 56"/>
            </a:avLst>
          </a:prstGeom>
          <a:solidFill>
            <a:srgbClr val="ffff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600" y="4394160"/>
            <a:ext cx="1844640" cy="333360"/>
          </a:xfrm>
          <a:prstGeom prst="roundRect">
            <a:avLst>
              <a:gd name="adj" fmla="val 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3840" y="3143160"/>
            <a:ext cx="3516120" cy="1071720"/>
          </a:xfrm>
          <a:prstGeom prst="roundRect">
            <a:avLst>
              <a:gd name="adj" fmla="val 148"/>
            </a:avLst>
          </a:prstGeom>
          <a:solidFill>
            <a:srgbClr val="ffff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2640" y="3000240"/>
            <a:ext cx="1405080" cy="333360"/>
          </a:xfrm>
          <a:prstGeom prst="roundRect">
            <a:avLst>
              <a:gd name="adj" fmla="val 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mport - przykład zachowania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8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3960" y="482760"/>
            <a:ext cx="3540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trzenie nazw typ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037800" y="1249200"/>
            <a:ext cx="374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0120" y="2989440"/>
            <a:ext cx="75294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808080"/>
                </a:solidFill>
                <a:latin typeface="Arial"/>
              </a:rPr>
              <a:t>"A.java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package 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public class A{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808080"/>
                </a:solidFill>
                <a:latin typeface="Arial"/>
              </a:rPr>
              <a:t>"Test.java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package tes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import java.util.*; </a:t>
            </a:r>
            <a:r>
              <a:rPr b="0" lang="en-GB" sz="2600" spc="-1" strike="noStrike">
                <a:solidFill>
                  <a:srgbClr val="808080"/>
                </a:solidFill>
                <a:latin typeface="Lucida Console"/>
              </a:rPr>
              <a:t>//zawiera typ 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import p.*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class Test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A 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List 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3360" y="2011320"/>
            <a:ext cx="5513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mieńmy nazwę typu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406240" y="3017520"/>
            <a:ext cx="7486920" cy="3291120"/>
            <a:chOff x="2406240" y="3017520"/>
            <a:chExt cx="7486920" cy="3291120"/>
          </a:xfrm>
        </p:grpSpPr>
        <p:sp>
          <p:nvSpPr>
            <p:cNvPr id="208" name=""/>
            <p:cNvSpPr/>
            <p:nvPr/>
          </p:nvSpPr>
          <p:spPr>
            <a:xfrm>
              <a:off x="5283360" y="3036960"/>
              <a:ext cx="4609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to odniesienie stanie się niejednoznaczne, i otrzymamy błąd kompilacj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406240" y="3971880"/>
              <a:ext cx="2770200" cy="233676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175360" y="3017520"/>
              <a:ext cx="1440" cy="129708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7440" y="4916520"/>
            <a:ext cx="5008680" cy="2500200"/>
          </a:xfrm>
          <a:prstGeom prst="roundRect">
            <a:avLst>
              <a:gd name="adj" fmla="val 60"/>
            </a:avLst>
          </a:prstGeom>
          <a:solidFill>
            <a:srgbClr val="ffff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9200" y="4727520"/>
            <a:ext cx="1495440" cy="333360"/>
          </a:xfrm>
          <a:prstGeom prst="roundRect">
            <a:avLst>
              <a:gd name="adj" fmla="val 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7440" y="3452760"/>
            <a:ext cx="5019840" cy="1309680"/>
          </a:xfrm>
          <a:prstGeom prst="roundRect">
            <a:avLst>
              <a:gd name="adj" fmla="val 120"/>
            </a:avLst>
          </a:prstGeom>
          <a:solidFill>
            <a:srgbClr val="ffff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6600" y="3309840"/>
            <a:ext cx="1189080" cy="333360"/>
          </a:xfrm>
          <a:prstGeom prst="roundRect">
            <a:avLst>
              <a:gd name="adj" fmla="val 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7440" y="2035080"/>
            <a:ext cx="5021280" cy="1274760"/>
          </a:xfrm>
          <a:prstGeom prst="roundRect">
            <a:avLst>
              <a:gd name="adj" fmla="val 120"/>
            </a:avLst>
          </a:prstGeom>
          <a:solidFill>
            <a:srgbClr val="ffffff"/>
          </a:solidFill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6600" y="1893960"/>
            <a:ext cx="1201680" cy="333360"/>
          </a:xfrm>
          <a:prstGeom prst="roundRect">
            <a:avLst>
              <a:gd name="adj" fmla="val 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mport - przykład zachowania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8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960" y="482760"/>
            <a:ext cx="3540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trzenie nazw typ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037800" y="1249200"/>
            <a:ext cx="374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4480" y="1893960"/>
            <a:ext cx="4694760" cy="53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"B.java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ackage p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ublic class B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ublic static int x= 4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"A.java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ackage 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ublic class 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ublic static int x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"Test.java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ackage 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import p1.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class Test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static int 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static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i= A.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29160" y="2166840"/>
            <a:ext cx="4651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mieńmy nazwę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1.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125880" y="2587680"/>
            <a:ext cx="4083120" cy="1440"/>
          </a:xfrm>
          <a:prstGeom prst="line">
            <a:avLst/>
          </a:prstGeom>
          <a:ln w="25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457360" y="3249720"/>
            <a:ext cx="7342200" cy="3238560"/>
            <a:chOff x="2457360" y="3249720"/>
            <a:chExt cx="7342200" cy="3238560"/>
          </a:xfrm>
        </p:grpSpPr>
        <p:sp>
          <p:nvSpPr>
            <p:cNvPr id="229" name=""/>
            <p:cNvSpPr/>
            <p:nvPr/>
          </p:nvSpPr>
          <p:spPr>
            <a:xfrm>
              <a:off x="5442120" y="3249720"/>
              <a:ext cx="4357440" cy="27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ziałanie programu ulegnie zmianie (bez wystąpienia błędów kompilacji) przez przesłonięcie widoczności typu zdefiniowanego w tym samym pakiecie, ale innej jednostce kompilacj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44840" y="4186080"/>
              <a:ext cx="898560" cy="2300400"/>
            </a:xfrm>
            <a:custGeom>
              <a:avLst/>
              <a:gdLst/>
              <a:ahLst/>
              <a:rect l="l" t="t" r="r" b="b"/>
              <a:pathLst>
                <a:path w="2497" h="6391">
                  <a:moveTo>
                    <a:pt x="648" y="0"/>
                  </a:moveTo>
                  <a:cubicBezTo>
                    <a:pt x="2496" y="1800"/>
                    <a:pt x="2346" y="4795"/>
                    <a:pt x="0" y="6390"/>
                  </a:cubicBezTo>
                </a:path>
              </a:pathLst>
            </a:custGeom>
            <a:noFill/>
            <a:ln w="25200">
              <a:solidFill>
                <a:srgbClr val="ff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57360" y="5535720"/>
              <a:ext cx="611280" cy="952560"/>
            </a:xfrm>
            <a:custGeom>
              <a:avLst/>
              <a:gdLst/>
              <a:ahLst/>
              <a:rect l="l" t="t" r="r" b="b"/>
              <a:pathLst>
                <a:path w="1698" h="2647">
                  <a:moveTo>
                    <a:pt x="0" y="0"/>
                  </a:moveTo>
                  <a:cubicBezTo>
                    <a:pt x="1697" y="399"/>
                    <a:pt x="1348" y="1897"/>
                    <a:pt x="251" y="2646"/>
                  </a:cubicBezTo>
                </a:path>
              </a:pathLst>
            </a:custGeom>
            <a:noFill/>
            <a:ln w="2520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mport - przykład zachowania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3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3960" y="482760"/>
            <a:ext cx="3540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trzenie nazw typ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037800" y="1249200"/>
            <a:ext cx="374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8640" y="2201760"/>
            <a:ext cx="84132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package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import java.util.*; </a:t>
            </a:r>
            <a:r>
              <a:rPr b="0" lang="en-GB" sz="2400" spc="-1" strike="noStrike">
                <a:solidFill>
                  <a:srgbClr val="808080"/>
                </a:solidFill>
                <a:latin typeface="Lucida Console"/>
              </a:rPr>
              <a:t>// zawiera klasę Array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lass 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public Object m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return new ArrayLis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0520" y="4656240"/>
            <a:ext cx="88707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o stworzenie w pakiecie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klasy o nazwie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ArrayLi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powoduje, że metoda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A::m(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zekaże obiekt klasy innej niż dotychczas, zmieniając w ten sposób działanie programu (bez powodowania błędów kompilacj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ypy zagnieżdżon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3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3960" y="482760"/>
            <a:ext cx="3540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trzenie nazw typ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43400" y="5929200"/>
            <a:ext cx="581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spowoduje to zmianę działania programu - bez powstania błędów kompilacji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6400" y="1976400"/>
            <a:ext cx="8871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zwy typów zagnieżdżonych przesłaniają widoczność nazw innych typów oraz zaciemniają widoczność nazw pakiet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60520" y="3506760"/>
            <a:ext cx="9394560" cy="2841120"/>
            <a:chOff x="560520" y="3506760"/>
            <a:chExt cx="9394560" cy="2841120"/>
          </a:xfrm>
        </p:grpSpPr>
        <p:sp>
          <p:nvSpPr>
            <p:cNvPr id="249" name=""/>
            <p:cNvSpPr/>
            <p:nvPr/>
          </p:nvSpPr>
          <p:spPr>
            <a:xfrm>
              <a:off x="858960" y="4124160"/>
              <a:ext cx="6538680" cy="22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import java.util.*; </a:t>
              </a:r>
              <a:r>
                <a:rPr b="0" lang="en-GB" sz="2200" spc="-1" strike="noStrike">
                  <a:solidFill>
                    <a:srgbClr val="808080"/>
                  </a:solidFill>
                  <a:latin typeface="Lucida Console"/>
                </a:rPr>
                <a:t>//zawiera typ Stac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class A{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class B{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Object m(){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            </a:t>
              </a: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return new Stack{}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0520" y="3506760"/>
              <a:ext cx="9394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Zmieńmy nazwę klasy którejś z klas 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lub 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B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na 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ypy zagnieżdżon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5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3960" y="482760"/>
            <a:ext cx="3540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trzenie nazw typ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9600" y="2170080"/>
            <a:ext cx="91342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ównie ważną konsekwencją używania typów zagnieżdżonych jest niejednoznaczność nazw typów, jaka się wówczas pojaw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9600" y="3979800"/>
            <a:ext cx="91342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 pewnych warunkach, liczba sposobów, na jakie możemy się odnosić do jednego, zagnieżdżonego typu, jest nieograniczo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600" y="5789520"/>
            <a:ext cx="91342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a cecha języka wpływa na znaczne zwiększenie możliwych przesłonięć nazw typó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ypy zagnieżdżon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68" name=""/>
          <p:cNvSpPr/>
          <p:nvPr/>
        </p:nvSpPr>
        <p:spPr>
          <a:xfrm>
            <a:off x="222120" y="1111320"/>
            <a:ext cx="5286600" cy="6367320"/>
          </a:xfrm>
          <a:custGeom>
            <a:avLst/>
            <a:gdLst>
              <a:gd name="textAreaLeft" fmla="*/ 360 w 5286600"/>
              <a:gd name="textAreaRight" fmla="*/ 5286240 w 5286600"/>
              <a:gd name="textAreaTop" fmla="*/ 360 h 6367320"/>
              <a:gd name="textAreaBottom" fmla="*/ 6366960 h 6367320"/>
            </a:gdLst>
            <a:ahLst/>
            <a:rect l="textAreaLeft" t="textAreaTop" r="textAreaRight" b="textAreaBottom"/>
            <a:pathLst>
              <a:path w="21600" h="26015">
                <a:moveTo>
                  <a:pt x="6" y="0"/>
                </a:moveTo>
                <a:arcTo wR="6" hR="6" stAng="16200000" swAng="-5400000"/>
                <a:lnTo>
                  <a:pt x="0" y="26009"/>
                </a:lnTo>
                <a:arcTo wR="6" hR="6" stAng="10800000" swAng="-5400000"/>
                <a:lnTo>
                  <a:pt x="21594" y="26015"/>
                </a:lnTo>
                <a:arcTo wR="6" hR="6" stAng="5400000" swAng="-5400000"/>
                <a:lnTo>
                  <a:pt x="21600" y="6"/>
                </a:lnTo>
                <a:arcTo wR="6" hR="6" stAng="0" swAng="-5400000"/>
                <a:close/>
              </a:path>
            </a:pathLst>
          </a:custGeom>
          <a:solidFill>
            <a:srgbClr val="ffffff"/>
          </a:solidFill>
          <a:ln w="25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3960" y="482760"/>
            <a:ext cx="3540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trzenie nazw typ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800" y="1203480"/>
            <a:ext cx="4862160" cy="61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ackage p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ublic class O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ublic class I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ublic class J{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GB" sz="2200" spc="-1" strike="noStrike">
                <a:solidFill>
                  <a:srgbClr val="ff0000"/>
                </a:solidFill>
                <a:latin typeface="Lucida Console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j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ff0000"/>
                </a:solidFill>
                <a:latin typeface="Lucida Console"/>
              </a:rPr>
              <a:t>I.J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ij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class O1 extends O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class O2 extends O.I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O2(O o){ o.super()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ff0000"/>
                </a:solidFill>
                <a:latin typeface="Lucida Console"/>
              </a:rPr>
              <a:t>O2.J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o2j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class Test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ff0000"/>
                </a:solidFill>
                <a:latin typeface="Lucida Console"/>
              </a:rPr>
              <a:t>O.I.J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oij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ff0000"/>
                </a:solidFill>
                <a:latin typeface="Lucida Console"/>
              </a:rPr>
              <a:t>p.O.I.J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poij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ff0000"/>
                </a:solidFill>
                <a:latin typeface="Lucida Console"/>
              </a:rPr>
              <a:t>O1.I.J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o1ij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ff0000"/>
                </a:solidFill>
                <a:latin typeface="Lucida Console"/>
              </a:rPr>
              <a:t>p.O1.I.J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po1ij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ff0000"/>
                </a:solidFill>
                <a:latin typeface="Lucida Console"/>
              </a:rPr>
              <a:t>O1.O2.J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o1o2j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ff0000"/>
                </a:solidFill>
                <a:latin typeface="Lucida Console"/>
              </a:rPr>
              <a:t>p.O1.O2.J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po1o2j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46760" y="3462480"/>
            <a:ext cx="403704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tym przykładzie wszystkie wyróżnione nazwy typów odnoszą się do tego samego ty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o kanonicznej nazwie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.O.I.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ypy lokalnie zdefiniowan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5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3960" y="482760"/>
            <a:ext cx="3540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trzenie nazw typ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" y="2008080"/>
            <a:ext cx="9134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y można deklarować w dowolnym miejscu metody - tak, jak zmienne lokal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9600" y="3079800"/>
            <a:ext cx="9134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zwy typów lokalnie zdefiniowanych przesłaniają widoczność nazw innych typów począwszy od miejsca dekla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79600" y="4584600"/>
            <a:ext cx="9390600" cy="2428200"/>
            <a:chOff x="579600" y="4584600"/>
            <a:chExt cx="9390600" cy="2428200"/>
          </a:xfrm>
        </p:grpSpPr>
        <p:sp>
          <p:nvSpPr>
            <p:cNvPr id="281" name=""/>
            <p:cNvSpPr/>
            <p:nvPr/>
          </p:nvSpPr>
          <p:spPr>
            <a:xfrm>
              <a:off x="579600" y="4616280"/>
              <a:ext cx="50878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8640" indent="-45864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zykład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8640" indent="-458640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zmieńmy typ 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X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na 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63240" y="4584600"/>
              <a:ext cx="4206960" cy="24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package p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class X{}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class Test{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Object m(){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class A{}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return new X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79600" y="5676840"/>
            <a:ext cx="6421320" cy="1190520"/>
            <a:chOff x="579600" y="5676840"/>
            <a:chExt cx="6421320" cy="1190520"/>
          </a:xfrm>
        </p:grpSpPr>
        <p:sp>
          <p:nvSpPr>
            <p:cNvPr id="284" name=""/>
            <p:cNvSpPr/>
            <p:nvPr/>
          </p:nvSpPr>
          <p:spPr>
            <a:xfrm>
              <a:off x="579600" y="5676840"/>
              <a:ext cx="457488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8640" indent="-10800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powoduje to ze metoda 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Test::m()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przekaże obiekt innego typ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083120" y="6249960"/>
              <a:ext cx="2917800" cy="39528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2400" y="5396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faktoryzacja nie jest prosta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2625840"/>
            <a:ext cx="87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elokrotne dziedziczenie interfejsów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8080" y="1998720"/>
            <a:ext cx="50191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przykładzie języka Ja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880" y="3921120"/>
            <a:ext cx="87343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728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zesłanianie, ukrywanie i zaciemnianie naz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1880" y="3273480"/>
            <a:ext cx="87343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728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zestrzenie nazw typ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880" y="4568760"/>
            <a:ext cx="87343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728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zeciążanie nazw met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880" y="5216400"/>
            <a:ext cx="87343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728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zypadki specjal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 gdy jest konflikt nazw typów?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90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3960" y="482760"/>
            <a:ext cx="3540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trzenie nazw typ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2008080"/>
            <a:ext cx="9134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rzędzie do refaktoryzacji może posłużyć się jedną z dwóch strateg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600" y="3079800"/>
            <a:ext cx="5862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2040" indent="-392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starać się naprawić k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600" y="3579840"/>
            <a:ext cx="8361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2040" indent="-392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uznać wystąpienie takiej sytuacji za niepożądane i zabronić refaktoryz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zesłaniani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0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5040" y="482760"/>
            <a:ext cx="6346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łanianie, ukrywanie i zaciemnianie naz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5520" y="1900080"/>
            <a:ext cx="9134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rzesłaniani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ng. shadowing) opisane jest w punkcie 6.3.1 specyfikacji języka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5520" y="2854440"/>
            <a:ext cx="9134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klaracje mogą być przesłaniane w częściach swych zasięgów przez inne deklaracje o tej samej nazw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25520" y="3830760"/>
            <a:ext cx="9136080" cy="3336120"/>
            <a:chOff x="425520" y="3830760"/>
            <a:chExt cx="9136080" cy="3336120"/>
          </a:xfrm>
        </p:grpSpPr>
        <p:sp>
          <p:nvSpPr>
            <p:cNvPr id="306" name=""/>
            <p:cNvSpPr/>
            <p:nvPr/>
          </p:nvSpPr>
          <p:spPr>
            <a:xfrm>
              <a:off x="425520" y="3830760"/>
              <a:ext cx="91360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68280" indent="-3682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zykład jak przesłanianie wpłynie na zmianę nazwy pola: zmieńmy nazwe pola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na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25200" y="4738680"/>
              <a:ext cx="4389840" cy="24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class S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protected int g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class A extends S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public int m(int p)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return g + 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701880" y="5226120"/>
            <a:ext cx="6256440" cy="1587240"/>
            <a:chOff x="3701880" y="5226120"/>
            <a:chExt cx="6256440" cy="1587240"/>
          </a:xfrm>
        </p:grpSpPr>
        <p:sp>
          <p:nvSpPr>
            <p:cNvPr id="312" name=""/>
            <p:cNvSpPr/>
            <p:nvPr/>
          </p:nvSpPr>
          <p:spPr>
            <a:xfrm>
              <a:off x="5778360" y="5226120"/>
              <a:ext cx="417996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eklaracja pola g zostanie przesłonięta przez nazwę parametru w treści metody A::m(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55880" y="6248520"/>
              <a:ext cx="898560" cy="360360"/>
            </a:xfrm>
            <a:custGeom>
              <a:avLst/>
              <a:gdLst/>
              <a:ahLst/>
              <a:rect l="l" t="t" r="r" b="b"/>
              <a:pathLst>
                <a:path w="2497" h="1000">
                  <a:moveTo>
                    <a:pt x="0" y="699"/>
                  </a:moveTo>
                  <a:cubicBezTo>
                    <a:pt x="899" y="799"/>
                    <a:pt x="1947" y="999"/>
                    <a:pt x="2496" y="0"/>
                  </a:cubicBezTo>
                </a:path>
              </a:pathLst>
            </a:custGeom>
            <a:noFill/>
            <a:ln w="252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01880" y="5373720"/>
              <a:ext cx="414360" cy="898560"/>
            </a:xfrm>
            <a:custGeom>
              <a:avLst/>
              <a:gdLst/>
              <a:ahLst/>
              <a:rect l="l" t="t" r="r" b="b"/>
              <a:pathLst>
                <a:path w="1150" h="2497">
                  <a:moveTo>
                    <a:pt x="0" y="2496"/>
                  </a:moveTo>
                  <a:cubicBezTo>
                    <a:pt x="250" y="1548"/>
                    <a:pt x="200" y="649"/>
                    <a:pt x="1149" y="0"/>
                  </a:cubicBezTo>
                </a:path>
              </a:pathLst>
            </a:custGeom>
            <a:noFill/>
            <a:ln w="2520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krywani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6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5040" y="482760"/>
            <a:ext cx="6346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łanianie, ukrywanie i zaciemnianie naz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7560" y="1900080"/>
            <a:ext cx="9010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160" indent="-11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krywani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ng. hiding) odnosi się do elementów, które byłyby odziedziczone z nadtypów - jednak nie są, z powodu istnienia deklaracji w podty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820680" y="5583240"/>
            <a:ext cx="6061680" cy="1122480"/>
            <a:chOff x="3820680" y="5583240"/>
            <a:chExt cx="6061680" cy="1122480"/>
          </a:xfrm>
        </p:grpSpPr>
        <p:sp>
          <p:nvSpPr>
            <p:cNvPr id="321" name=""/>
            <p:cNvSpPr/>
            <p:nvPr/>
          </p:nvSpPr>
          <p:spPr>
            <a:xfrm>
              <a:off x="5452920" y="5583240"/>
              <a:ext cx="4429440" cy="11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należało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ten wiersz zmienić na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((A)this).f= 42;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820680" y="6180120"/>
              <a:ext cx="1538280" cy="144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71680" y="3511440"/>
            <a:ext cx="9251640" cy="3471120"/>
            <a:chOff x="571680" y="3511440"/>
            <a:chExt cx="9251640" cy="3471120"/>
          </a:xfrm>
        </p:grpSpPr>
        <p:sp>
          <p:nvSpPr>
            <p:cNvPr id="324" name=""/>
            <p:cNvSpPr/>
            <p:nvPr/>
          </p:nvSpPr>
          <p:spPr>
            <a:xfrm>
              <a:off x="828360" y="4352760"/>
              <a:ext cx="3962880" cy="26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class A {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protected int f;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class B extends A{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void m(){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f= 42;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1680" y="3511440"/>
              <a:ext cx="9251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odajmy do klasy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nowe pole typu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, o nazwie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Zaciemniani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0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5040" y="482760"/>
            <a:ext cx="6346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łanianie, ukrywanie i zaciemnianie naz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440" y="1900080"/>
            <a:ext cx="89629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yfikacja języka stwierdza, że nazwy proste mogą występować w różnych kontekstach - w takich sytuacjach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zmienna ma pierwszeństwo przed typem, a typ przed pakie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76800" y="3679920"/>
            <a:ext cx="8492760" cy="3471840"/>
            <a:chOff x="676800" y="3679920"/>
            <a:chExt cx="8492760" cy="3471840"/>
          </a:xfrm>
        </p:grpSpPr>
        <p:sp>
          <p:nvSpPr>
            <p:cNvPr id="335" name=""/>
            <p:cNvSpPr/>
            <p:nvPr/>
          </p:nvSpPr>
          <p:spPr>
            <a:xfrm>
              <a:off x="676800" y="3813120"/>
              <a:ext cx="4389840" cy="33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class X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static int length()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return 42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class Test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String s= "hello"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int m()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return X.length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84680" y="3679920"/>
              <a:ext cx="35848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Zmieńmy nazwę typu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na 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092320" y="4060800"/>
            <a:ext cx="7016760" cy="2408040"/>
            <a:chOff x="2092320" y="4060800"/>
            <a:chExt cx="7016760" cy="2408040"/>
          </a:xfrm>
        </p:grpSpPr>
        <p:sp>
          <p:nvSpPr>
            <p:cNvPr id="341" name=""/>
            <p:cNvSpPr/>
            <p:nvPr/>
          </p:nvSpPr>
          <p:spPr>
            <a:xfrm>
              <a:off x="5548320" y="4881600"/>
              <a:ext cx="356076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ez wystąpienia błędów kompilacji działanie programu zostanie zmien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41680" y="5911920"/>
              <a:ext cx="395280" cy="449280"/>
            </a:xfrm>
            <a:custGeom>
              <a:avLst/>
              <a:gdLst/>
              <a:ahLst/>
              <a:rect l="l" t="t" r="r" b="b"/>
              <a:pathLst>
                <a:path w="1099" h="1249">
                  <a:moveTo>
                    <a:pt x="1098" y="1248"/>
                  </a:moveTo>
                  <a:cubicBezTo>
                    <a:pt x="849" y="1099"/>
                    <a:pt x="0" y="499"/>
                    <a:pt x="0" y="0"/>
                  </a:cubicBezTo>
                </a:path>
              </a:pathLst>
            </a:custGeom>
            <a:noFill/>
            <a:ln w="252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92320" y="4060800"/>
              <a:ext cx="1295280" cy="2120760"/>
            </a:xfrm>
            <a:custGeom>
              <a:avLst/>
              <a:gdLst/>
              <a:ahLst/>
              <a:rect l="l" t="t" r="r" b="b"/>
              <a:pathLst>
                <a:path w="3597" h="5892">
                  <a:moveTo>
                    <a:pt x="3046" y="5891"/>
                  </a:moveTo>
                  <a:cubicBezTo>
                    <a:pt x="3596" y="4393"/>
                    <a:pt x="2447" y="1395"/>
                    <a:pt x="0" y="0"/>
                  </a:cubicBezTo>
                </a:path>
              </a:pathLst>
            </a:custGeom>
            <a:noFill/>
            <a:ln w="2520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zeciążanie nazw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45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5440" y="1900080"/>
            <a:ext cx="89629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55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aktoryzacje mogą prowadzić zarówno do eliminowania, jak i do powstawania przeciąż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5440" y="3068640"/>
            <a:ext cx="8275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55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stawanie przeciążen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903480" y="4929120"/>
            <a:ext cx="5954760" cy="1898280"/>
            <a:chOff x="3903480" y="4929120"/>
            <a:chExt cx="5954760" cy="1898280"/>
          </a:xfrm>
        </p:grpSpPr>
        <p:sp>
          <p:nvSpPr>
            <p:cNvPr id="350" name=""/>
            <p:cNvSpPr/>
            <p:nvPr/>
          </p:nvSpPr>
          <p:spPr>
            <a:xfrm>
              <a:off x="5691240" y="4929120"/>
              <a:ext cx="4167000" cy="18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wczesniejsze wywołani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b("hello"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si zostać zastąpione prze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a((Object)"hello"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3903480" y="6427800"/>
              <a:ext cx="1641240" cy="200160"/>
            </a:xfrm>
            <a:prstGeom prst="line">
              <a:avLst/>
            </a:prstGeom>
            <a:ln w="252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961920" y="3784680"/>
            <a:ext cx="8742600" cy="3138120"/>
            <a:chOff x="961920" y="3784680"/>
            <a:chExt cx="8742600" cy="3138120"/>
          </a:xfrm>
        </p:grpSpPr>
        <p:sp>
          <p:nvSpPr>
            <p:cNvPr id="353" name=""/>
            <p:cNvSpPr/>
            <p:nvPr/>
          </p:nvSpPr>
          <p:spPr>
            <a:xfrm>
              <a:off x="961920" y="3887640"/>
              <a:ext cx="4206960" cy="30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class Foo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void a(String s) {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void b(Object s) {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Lucida Console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void cos( Foo f )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f.a("hello"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f.b("hello"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67480" y="3784680"/>
              <a:ext cx="40370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Zmieńmy nazwę metody 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Foo::b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na 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Foo::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zeciążanie nazw metod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9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5440" y="1900080"/>
            <a:ext cx="89629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55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aktoryzacje mogą prowadzić zarówno do eliminowania, jak i do powstawania przeciąż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5440" y="3068640"/>
            <a:ext cx="8275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55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iminowanie przeciążen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61120" y="4726080"/>
            <a:ext cx="457344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la każdego wołania przeciążonej metody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Foo::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usimy badać typ przekazywanego parametru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oże się zdarzyć że przekazywany parametr będzie niejawnie rzutowany na typu parametru, lub z niego dziedzic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912600" y="3317760"/>
            <a:ext cx="8804520" cy="3857760"/>
            <a:chOff x="912600" y="3317760"/>
            <a:chExt cx="8804520" cy="3857760"/>
          </a:xfrm>
        </p:grpSpPr>
        <p:sp>
          <p:nvSpPr>
            <p:cNvPr id="365" name=""/>
            <p:cNvSpPr/>
            <p:nvPr/>
          </p:nvSpPr>
          <p:spPr>
            <a:xfrm>
              <a:off x="912600" y="3836880"/>
              <a:ext cx="4389840" cy="33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class Foo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void a(String s) {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void a(Object s) {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Lucida Console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void cos( Foo f )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f.a("hello"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f.a((Object)"hello"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f.a( f 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80080" y="3317760"/>
              <a:ext cx="403704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Zmieńmy nazwę metody 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Foo::a(Object)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na 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Foo::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toda </a:t>
            </a:r>
            <a:r>
              <a:rPr b="1" lang="en-GB" sz="4400" spc="-1" strike="noStrike">
                <a:solidFill>
                  <a:srgbClr val="000000"/>
                </a:solidFill>
                <a:latin typeface="Lucida Console"/>
              </a:rPr>
              <a:t>toString()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1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3680" y="482760"/>
            <a:ext cx="5249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ypadki specjalne (typowe dla Jav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5440" y="2206800"/>
            <a:ext cx="90486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55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jest zadeklarowana w klasie </a:t>
            </a:r>
            <a:r>
              <a:rPr b="0" lang="en-GB" sz="3000" spc="-1" strike="noStrike">
                <a:solidFill>
                  <a:srgbClr val="000000"/>
                </a:solidFill>
                <a:latin typeface="Lucida Console"/>
              </a:rPr>
              <a:t>java.lang.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95440" y="3164040"/>
            <a:ext cx="9048600" cy="1976400"/>
            <a:chOff x="595440" y="3164040"/>
            <a:chExt cx="9048600" cy="1976400"/>
          </a:xfrm>
        </p:grpSpPr>
        <p:sp>
          <p:nvSpPr>
            <p:cNvPr id="376" name=""/>
            <p:cNvSpPr/>
            <p:nvPr/>
          </p:nvSpPr>
          <p:spPr>
            <a:xfrm>
              <a:off x="595440" y="3164040"/>
              <a:ext cx="904860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5680" indent="-3556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Arial"/>
                </a:rPr>
                <a:t>wywoływana domyślnie przez użycie operatora </a:t>
              </a:r>
              <a:r>
                <a:rPr b="0" lang="en-GB" sz="3000" spc="-1" strike="noStrike">
                  <a:solidFill>
                    <a:srgbClr val="000000"/>
                  </a:solidFill>
                  <a:latin typeface="Lucida Console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Arial"/>
                </a:rPr>
                <a:t> wtedy, gdy co najmniej jeden z argumentów jest obiektem klasy </a:t>
              </a:r>
              <a:r>
                <a:rPr b="0" lang="en-GB" sz="3000" spc="-1" strike="noStrike">
                  <a:solidFill>
                    <a:srgbClr val="000000"/>
                  </a:solidFill>
                  <a:latin typeface="Lucida Console"/>
                </a:rPr>
                <a:t>java.lang.String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31840" y="4786200"/>
              <a:ext cx="768024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String f = "a" + new Exception(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95440" y="5727600"/>
            <a:ext cx="904860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55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zmiana nazwy tej metody lub jej położenia może prowadzić do niepożądanych sytuacj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akiet </a:t>
            </a:r>
            <a:r>
              <a:rPr b="1" lang="en-GB" sz="4400" spc="-1" strike="noStrike">
                <a:solidFill>
                  <a:srgbClr val="000000"/>
                </a:solidFill>
                <a:latin typeface="Lucida Console"/>
              </a:rPr>
              <a:t>java.lang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3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3680" y="482760"/>
            <a:ext cx="5249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ypadki specjalne (typowe dla Jav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5440" y="2135160"/>
            <a:ext cx="904860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55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szystkie publiczne typy z pakietu </a:t>
            </a:r>
            <a:r>
              <a:rPr b="0" lang="en-GB" sz="3000" spc="-1" strike="noStrike">
                <a:solidFill>
                  <a:srgbClr val="000000"/>
                </a:solidFill>
                <a:latin typeface="Lucida Console"/>
              </a:rPr>
              <a:t>java.lan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są zawsze importowane niejawn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5440" y="3352680"/>
            <a:ext cx="90248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azwy wielu typów zadeklarowanych w tym pakiecie są na stałe zakodowane w maszynie wirtualnej Jav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96880" y="4995720"/>
            <a:ext cx="9048600" cy="1923840"/>
            <a:chOff x="596880" y="4995720"/>
            <a:chExt cx="9048600" cy="1923840"/>
          </a:xfrm>
        </p:grpSpPr>
        <p:sp>
          <p:nvSpPr>
            <p:cNvPr id="389" name=""/>
            <p:cNvSpPr/>
            <p:nvPr/>
          </p:nvSpPr>
          <p:spPr>
            <a:xfrm>
              <a:off x="1031760" y="5565600"/>
              <a:ext cx="831528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5680" indent="-355680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Arial"/>
                </a:rPr>
                <a:t>1. zmienić nazwy ani położenia żadnego typu zadeklarowanego w tym pakieci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31760" y="6494400"/>
              <a:ext cx="831528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5680" indent="-355680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Arial"/>
                </a:rPr>
                <a:t>2. zmienić nazwy tego pakietu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6880" y="4995720"/>
              <a:ext cx="904860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68280" indent="-3682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Arial"/>
                </a:rPr>
                <a:t>możemy więc założyć, że nie wolno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toda </a:t>
            </a:r>
            <a:r>
              <a:rPr b="1" lang="en-GB" sz="4400" spc="-1" strike="noStrike">
                <a:solidFill>
                  <a:srgbClr val="000000"/>
                </a:solidFill>
                <a:latin typeface="Lucida Console"/>
              </a:rPr>
              <a:t>main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6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3680" y="482760"/>
            <a:ext cx="5249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ypadki specjalne (typowe dla Jav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440" y="3032280"/>
            <a:ext cx="9048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55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zmiana nazwy, położenia, typu wyniku, typu i liczby argumentów, czy modyfikatorów tej metod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5440" y="4091040"/>
            <a:ext cx="91202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zmiana nazwy i położenia typu, w którym jest zadeklarowana (ani żadnego z zawierających go typów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6880" y="5092560"/>
            <a:ext cx="9048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zmiana nazwy pakietu, w którym znajduje się typ deklarujący tą metod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2640" y="2009880"/>
            <a:ext cx="90489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niższe refaktoryzacje spowodują błędy (bądź drastyczne zmiany zachowania programu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2920" y="6068880"/>
            <a:ext cx="98470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zy powyższych refaktoryzacjach należy pamiętać o aktualizacji zewnętrznych programów uruchamiających refaktoryzowany program w Javie (skryptów, programów wsadowych i innych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iejawne dziedziczenie z 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Object 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8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3680" y="482760"/>
            <a:ext cx="5249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ypadki specjalne (typowe dla Jav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9600" y="2009880"/>
            <a:ext cx="95486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 specyfikacji języka napisano ([JLS2 9.2]), ż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,jeżeli interfejs nie ma żadnych bezpośrednich nadinterfejsów, wówczas niejawnie deklaruje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ubliczną, abstrakcyjną metodę m o sygnaturze s, typie wyniku r oraz klauzuli throws t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dpowiadającą każdej z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ublicznych metod instancyjnych m o sygnaturze s, typie wyniku r oraz klauzuli throws t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zadeklarowanych w klasie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java.lang.Objec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 chyba, że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etoda o tej samej sygnaturze, typie wyniku i odpowiadającej klauzuli throw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est jawnie zadeklarowana w tym interfejsie.''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ynika z tego, że zgłaszany jest błąd kompilacji, jeżeli interfejs deklaruje metodę o tej samej sygnaturze i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odmiennym typie wynik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bądź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nieodpowiadającej klauzuli throw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Jak to wygląda w Javi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800" y="2182680"/>
            <a:ext cx="8734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żliwość wielodziedziczenia, brak cykli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960" y="482760"/>
            <a:ext cx="514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elokrotne dziedziczenie interfejs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1240" y="3056040"/>
            <a:ext cx="873468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dklasy tez muszą implementować interfejs nadklasy (lub dziedziczyć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8880" y="4386240"/>
            <a:ext cx="873432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ody z interfejsów muszą być instancyjne i publi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chanizm odbicia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16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3680" y="482760"/>
            <a:ext cx="5249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ypadki specjalne (typowe dla Jav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5440" y="1900080"/>
            <a:ext cx="9048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55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zwala na dynamiczny dostęp do elementów programu używając ich nazw, które mogą być określone dopiero podczas działania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14200" y="3556080"/>
            <a:ext cx="9514080" cy="1443960"/>
            <a:chOff x="214200" y="3556080"/>
            <a:chExt cx="9514080" cy="1443960"/>
          </a:xfrm>
        </p:grpSpPr>
        <p:sp>
          <p:nvSpPr>
            <p:cNvPr id="421" name=""/>
            <p:cNvSpPr/>
            <p:nvPr/>
          </p:nvSpPr>
          <p:spPr>
            <a:xfrm>
              <a:off x="595440" y="3556080"/>
              <a:ext cx="90486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55680" indent="-35568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zykładowo, tak też można wywołać metodę 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biektu 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o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4200" y="4671000"/>
              <a:ext cx="95140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Lucida Console"/>
                </a:rPr>
                <a:t>o.getClass().getMethod("m", null).invoke(o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96880" y="5580000"/>
            <a:ext cx="9048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-3556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miana nazwy metody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powoduje, że efektem wykonania podanego fragmentu kodu będzie zgłoszenie wyją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>
            <a:hlinkClick r:id="" action="ppaction://hlinkshowjump?jump=endshow"/>
          </p:cNvPr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0000"/>
          </a:solidFill>
          <a:ln w="25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79400" y="32702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Zmiana nazwy metody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5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3960" y="482760"/>
            <a:ext cx="514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elokrotne dziedziczenie interfejs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025720"/>
            <a:ext cx="913464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gorytm zmiany nazwy metody przy pojedynczym dziedziczeniu (np. w SmallTalku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600" y="3138480"/>
            <a:ext cx="913428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sprawdź, czy metoda o nowej nazwie (sygnaturze) nie jest już zadeklarowana w hierarchii danego typu - jeśli tak, to zmiana nazwy nie jest możli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600" y="4950000"/>
            <a:ext cx="913428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znajdź najbardziej abstrakcyjny typ deklarujący daną metod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600" y="5862600"/>
            <a:ext cx="913428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 zmień nazwę metody we wszystkich podtypach znalezionego ty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zykład w Javi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6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960" y="482760"/>
            <a:ext cx="514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elokrotne dziedziczenie interfejs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0840" y="1878120"/>
            <a:ext cx="9159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la Javy poprzedni algorytm jest niewystarczają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6520" y="2690640"/>
            <a:ext cx="4938480" cy="27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interface I1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public void m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interface I2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public void m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class A implements I1, I2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public void m()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4320" y="5850000"/>
            <a:ext cx="96994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miana nazwy metody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I1::m(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si pociągać za sobą zmianę nazwy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A::m(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w przeciwnym razie powstanie błąd kompilacji. Zauważmy także, że również nazwa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I2::m(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si ulec zmia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fekt fali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6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3960" y="482760"/>
            <a:ext cx="514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elokrotne dziedziczenie interfejs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4120" y="1949040"/>
            <a:ext cx="93772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miana nazwy metody jest przenoszona po grafie typów</a:t>
            </a:r>
            <a:endParaRPr b="0" lang="en-US" sz="2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0" name=""/>
          <p:cNvSpPr/>
          <p:nvPr/>
        </p:nvSpPr>
        <p:spPr>
          <a:xfrm>
            <a:off x="384120" y="2540160"/>
            <a:ext cx="9377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ie zjawisko można nazwać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fektem fal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ng. ripple eff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4120" y="3510000"/>
            <a:ext cx="9377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la może się rozchodzić po wielu klasach i interfejs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4100400"/>
            <a:ext cx="9377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gorytm wyszukiwania metod, których nazwy należy zmienić, powinien przeglądać graf typów w górę i w dół począwszy od maksymalnie abstrakcyjnego typu deklarującego daną metod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4120" y="5857920"/>
            <a:ext cx="937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yższy algorytm stosować można (należy!) niemal przy każdej refaktoryzacji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p. dodanie/usuniecie parametru metody, usuniecie metody, zmiana kolejności parametrów metody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fekt fali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8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960" y="482760"/>
            <a:ext cx="514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elokrotne dziedziczenie interfejs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6840" y="3570120"/>
            <a:ext cx="3517920" cy="834840"/>
          </a:xfrm>
          <a:prstGeom prst="roundRect">
            <a:avLst>
              <a:gd name="adj" fmla="val 148"/>
            </a:avLst>
          </a:prstGeom>
          <a:noFill/>
          <a:ln w="25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interface I1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ublic void m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11840" y="5145120"/>
            <a:ext cx="4189320" cy="834840"/>
          </a:xfrm>
          <a:prstGeom prst="roundRect">
            <a:avLst>
              <a:gd name="adj" fmla="val 148"/>
            </a:avLst>
          </a:prstGeom>
          <a:noFill/>
          <a:ln w="25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class B implements I2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ublic void m(){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6960" y="5145120"/>
            <a:ext cx="4946760" cy="834840"/>
          </a:xfrm>
          <a:prstGeom prst="roundRect">
            <a:avLst>
              <a:gd name="adj" fmla="val 148"/>
            </a:avLst>
          </a:prstGeom>
          <a:noFill/>
          <a:ln w="25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class A implements I1, I2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ublic void m(){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70480" y="3559320"/>
            <a:ext cx="3517920" cy="834840"/>
          </a:xfrm>
          <a:prstGeom prst="roundRect">
            <a:avLst>
              <a:gd name="adj" fmla="val 148"/>
            </a:avLst>
          </a:prstGeom>
          <a:noFill/>
          <a:ln w="25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interface I2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ublic void m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0200" y="4335480"/>
            <a:ext cx="610920" cy="1197000"/>
          </a:xfrm>
          <a:prstGeom prst="line">
            <a:avLst/>
          </a:prstGeom>
          <a:ln w="252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005360" y="4186080"/>
            <a:ext cx="3076560" cy="1285920"/>
          </a:xfrm>
          <a:prstGeom prst="line">
            <a:avLst/>
          </a:prstGeom>
          <a:ln w="252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85120" y="4164120"/>
            <a:ext cx="1111320" cy="1244520"/>
          </a:xfrm>
          <a:prstGeom prst="line">
            <a:avLst/>
          </a:prstGeom>
          <a:ln w="252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6440" y="2297160"/>
            <a:ext cx="9699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ykład ilustrujący zjawisko fal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zmieniamy nazwę metody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I1: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odatkowe problem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3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960" y="482760"/>
            <a:ext cx="514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elokrotne dziedziczenie interfejs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0840" y="1878120"/>
            <a:ext cx="91598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e wszystkie typy wzdłuż fali muszą deklarować metodę o sygnaturze takiej, jak sygnatura metody, której nazwę chcemy zmieni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17400" y="3814200"/>
            <a:ext cx="8934480" cy="3393000"/>
            <a:chOff x="617400" y="3814200"/>
            <a:chExt cx="8934480" cy="3393000"/>
          </a:xfrm>
        </p:grpSpPr>
        <p:sp>
          <p:nvSpPr>
            <p:cNvPr id="121" name=""/>
            <p:cNvSpPr/>
            <p:nvPr/>
          </p:nvSpPr>
          <p:spPr>
            <a:xfrm>
              <a:off x="2265120" y="5402520"/>
              <a:ext cx="6035760" cy="303840"/>
            </a:xfrm>
            <a:prstGeom prst="rect">
              <a:avLst/>
            </a:prstGeom>
            <a:noFill/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class B extends A implements I {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400" y="6413400"/>
              <a:ext cx="89344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 zmianie nazwy metody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I::m()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również nazwa metody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A::m()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musi zostać zmienion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3520" y="3814200"/>
              <a:ext cx="3658320" cy="910800"/>
            </a:xfrm>
            <a:prstGeom prst="rect">
              <a:avLst/>
            </a:prstGeom>
            <a:noFill/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interface I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public void m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25200" y="3822840"/>
              <a:ext cx="4024080" cy="910800"/>
            </a:xfrm>
            <a:prstGeom prst="rect">
              <a:avLst/>
            </a:prstGeom>
            <a:noFill/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class A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public void m() {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043520" y="4503600"/>
            <a:ext cx="3468600" cy="862200"/>
          </a:xfrm>
          <a:prstGeom prst="line">
            <a:avLst/>
          </a:prstGeom>
          <a:ln w="252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8640" y="5721480"/>
            <a:ext cx="2138400" cy="574560"/>
          </a:xfrm>
          <a:custGeom>
            <a:avLst/>
            <a:gdLst/>
            <a:ahLst/>
            <a:rect l="l" t="t" r="r" b="b"/>
            <a:pathLst>
              <a:path w="5941" h="1598">
                <a:moveTo>
                  <a:pt x="5940" y="49"/>
                </a:moveTo>
                <a:cubicBezTo>
                  <a:pt x="5042" y="1447"/>
                  <a:pt x="998" y="1597"/>
                  <a:pt x="0" y="0"/>
                </a:cubicBezTo>
              </a:path>
            </a:pathLst>
          </a:custGeom>
          <a:noFill/>
          <a:ln w="2520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63880" y="4449600"/>
            <a:ext cx="4403880" cy="880920"/>
            <a:chOff x="3863880" y="4449600"/>
            <a:chExt cx="4403880" cy="880920"/>
          </a:xfrm>
        </p:grpSpPr>
        <p:sp>
          <p:nvSpPr>
            <p:cNvPr id="128" name=""/>
            <p:cNvSpPr/>
            <p:nvPr/>
          </p:nvSpPr>
          <p:spPr>
            <a:xfrm flipV="1">
              <a:off x="5462640" y="4465440"/>
              <a:ext cx="2803320" cy="865080"/>
            </a:xfrm>
            <a:prstGeom prst="line">
              <a:avLst/>
            </a:prstGeom>
            <a:ln w="252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63880" y="4449600"/>
              <a:ext cx="4403880" cy="341640"/>
            </a:xfrm>
            <a:custGeom>
              <a:avLst/>
              <a:gdLst/>
              <a:ahLst/>
              <a:rect l="l" t="t" r="r" b="b"/>
              <a:pathLst>
                <a:path w="12232" h="950">
                  <a:moveTo>
                    <a:pt x="0" y="0"/>
                  </a:moveTo>
                  <a:cubicBezTo>
                    <a:pt x="3444" y="899"/>
                    <a:pt x="9435" y="949"/>
                    <a:pt x="12231" y="0"/>
                  </a:cubicBezTo>
                </a:path>
              </a:pathLst>
            </a:custGeom>
            <a:noFill/>
            <a:ln w="252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1760" y="738360"/>
            <a:ext cx="985680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odatkowe problem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1" name=""/>
          <p:cNvSpPr/>
          <p:nvPr/>
        </p:nvSpPr>
        <p:spPr>
          <a:xfrm>
            <a:off x="9147240" y="66600"/>
            <a:ext cx="86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2004-11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8560" y="81000"/>
            <a:ext cx="2820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Arial"/>
              </a:rPr>
              <a:t>trudności przy refaktoryzacji kodu w Ja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960" y="482760"/>
            <a:ext cx="5145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elokrotne dziedziczenie interfejs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0840" y="1878120"/>
            <a:ext cx="9159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ody niewirtualne nie zastępują metod wirtualnych i wobec tego zatrzymują fal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36640"/>
            <a:ext cx="10080720" cy="28800"/>
          </a:xfrm>
          <a:prstGeom prst="roundRect">
            <a:avLst>
              <a:gd name="adj" fmla="val 555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708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81200"/>
            <a:ext cx="10080720" cy="28440"/>
          </a:xfrm>
          <a:prstGeom prst="roundRect">
            <a:avLst>
              <a:gd name="adj" fmla="val 55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6280" y="3371400"/>
            <a:ext cx="9047880" cy="3096360"/>
            <a:chOff x="476280" y="3371400"/>
            <a:chExt cx="9047880" cy="3096360"/>
          </a:xfrm>
        </p:grpSpPr>
        <p:sp>
          <p:nvSpPr>
            <p:cNvPr id="139" name=""/>
            <p:cNvSpPr/>
            <p:nvPr/>
          </p:nvSpPr>
          <p:spPr>
            <a:xfrm>
              <a:off x="2464560" y="4801320"/>
              <a:ext cx="5852880" cy="910800"/>
            </a:xfrm>
            <a:prstGeom prst="rect">
              <a:avLst/>
            </a:prstGeom>
            <a:noFill/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class B extends A implements I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public void m() {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2960" y="3371400"/>
              <a:ext cx="3658320" cy="910800"/>
            </a:xfrm>
            <a:prstGeom prst="rect">
              <a:avLst/>
            </a:prstGeom>
            <a:noFill/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interface I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public void m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17200" y="3380040"/>
              <a:ext cx="4206960" cy="910800"/>
            </a:xfrm>
            <a:prstGeom prst="rect">
              <a:avLst/>
            </a:prstGeom>
            <a:noFill/>
            <a:ln w="25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class A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private void m() {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6280" y="6070680"/>
              <a:ext cx="8724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Zmieńmy nazwę metody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I::m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76280" y="3989520"/>
            <a:ext cx="8977320" cy="2944800"/>
            <a:chOff x="476280" y="3989520"/>
            <a:chExt cx="8977320" cy="2944800"/>
          </a:xfrm>
        </p:grpSpPr>
        <p:sp>
          <p:nvSpPr>
            <p:cNvPr id="144" name=""/>
            <p:cNvSpPr/>
            <p:nvPr/>
          </p:nvSpPr>
          <p:spPr>
            <a:xfrm>
              <a:off x="476280" y="6537240"/>
              <a:ext cx="8977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Należy też zmienić nazwę metody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B::m()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81520" y="3989520"/>
              <a:ext cx="1455480" cy="1096920"/>
            </a:xfrm>
            <a:prstGeom prst="line">
              <a:avLst/>
            </a:prstGeom>
            <a:ln w="252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76280" y="3933360"/>
            <a:ext cx="9335880" cy="3450240"/>
            <a:chOff x="476280" y="3933360"/>
            <a:chExt cx="9335880" cy="3450240"/>
          </a:xfrm>
        </p:grpSpPr>
        <p:sp>
          <p:nvSpPr>
            <p:cNvPr id="147" name=""/>
            <p:cNvSpPr/>
            <p:nvPr/>
          </p:nvSpPr>
          <p:spPr>
            <a:xfrm>
              <a:off x="476280" y="6986520"/>
              <a:ext cx="9335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le metoda</a:t>
              </a:r>
              <a:r>
                <a:rPr b="0" lang="en-GB" sz="28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Lucida Console"/>
                </a:rPr>
                <a:t>A::m()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może pozostać nieprzemianowa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643720" y="3933360"/>
              <a:ext cx="2604960" cy="1171800"/>
            </a:xfrm>
            <a:prstGeom prst="line">
              <a:avLst/>
            </a:prstGeom>
            <a:ln w="252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72280" y="4475160"/>
              <a:ext cx="1384200" cy="88920"/>
            </a:xfrm>
            <a:prstGeom prst="line">
              <a:avLst/>
            </a:prstGeom>
            <a:ln w="612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684840" y="3987360"/>
              <a:ext cx="648000" cy="1063800"/>
            </a:xfrm>
            <a:prstGeom prst="line">
              <a:avLst/>
            </a:prstGeom>
            <a:ln w="612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am Mazur</cp:lastModifiedBy>
  <cp:revision>0</cp:revision>
  <dc:subject/>
  <dc:title/>
</cp:coreProperties>
</file>