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9B3-F959-47A2-876F-C8D259AA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1AA-7C0B-4907-B2AF-126CEFD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FA0B-0881-46D2-98D6-C40A1377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721-6C99-4B55-9787-CCC73CEE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AC0-286B-44AD-B9AB-033195F4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0E5-FDE5-474A-A0F8-16FD2038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93A-D319-4322-9C09-81F8306F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B27-B30D-46DF-B8A6-4022297E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9D6-171E-4069-A822-A500ACF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FBF7-F124-434D-AD51-69B2CFAB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49A0-35B2-4206-99EB-36C22E54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C52-F914-48D0-9625-FD6715D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0D3C-DBE4-4792-9DDF-7BA35A620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XDOclet.txt" TargetMode="External"/><Relationship Id="rId2" Type="http://schemas.openxmlformats.org/officeDocument/2006/relationships/hyperlink" Target="http://catdb.xml.txt/" TargetMode="External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collectionsExample.tx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able-per-hierarchy.txt" TargetMode="External"/><Relationship Id="rId2" Type="http://schemas.openxmlformats.org/officeDocument/2006/relationships/hyperlink" Target="file:///table-per-subclass.txt" TargetMode="External"/><Relationship Id="rId3" Type="http://schemas.openxmlformats.org/officeDocument/2006/relationships/hyperlink" Target="file:///table-per-concreteclass.txt" TargetMode="External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inteface-save.txt" TargetMode="External"/><Relationship Id="rId2" Type="http://schemas.openxmlformats.org/officeDocument/2006/relationships/hyperlink" Target="file:///inteface-load.txt" TargetMode="External"/><Relationship Id="rId3" Type="http://schemas.openxmlformats.org/officeDocument/2006/relationships/hyperlink" Target="file:///inteface-find.txt" TargetMode="External"/><Relationship Id="rId4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000000"/>
                </a:solidFill>
                <a:latin typeface="Arial Black"/>
              </a:rPr>
              <a:t>Hiberna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u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chał Sł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99B-9A0A-4703-B3F6-8096CA3838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Session Fac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iezmienny obiekt tworzony zwykle przy starcie aplika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utworzenia obiektu używana jest konfigurac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SessionFactory sessions = cfg.buildSessionFactory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ession Factory służy do tworzenia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połączeń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sj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ibernate umie korzystać z połączeń JDB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dostępnionych mu przez użytkowni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java.sql.Connection conn = datasource.getConnection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Session session = session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.openSession(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worzonych przez Hiber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Session session = sess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onFactory</a:t>
            </a:r>
            <a:r>
              <a:rPr b="0" lang="en" sz="1600" spc="-1" strike="noStrike">
                <a:solidFill>
                  <a:srgbClr val="000000"/>
                </a:solidFill>
                <a:latin typeface="Arial"/>
              </a:rPr>
              <a:t>.openSession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 celów komercyjnych należy użyć innego niż wbudowany w Hibernate modułu puli połączeń (w tym celu wraz z Hibernate rozprowadzana jest biblioteka C3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922-768F-4C5A-8D67-32E015A25A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zykł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figuracja serwera aplikacji Jav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opiować sterownik JDBC bazy danych do katalogu k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kopiować hibernate2.jar (dla Hibernate w wersji 2.x), oraz skompilowany dodatkowych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bibliotek rozprowadzanych wraz z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Hibern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Konfiguracja Hibernate, przez edycje: </a:t>
            </a:r>
            <a:r>
              <a:rPr b="0" i="1" lang="en" sz="1800" spc="-1" strike="noStrike">
                <a:solidFill>
                  <a:srgbClr val="000000"/>
                </a:solidFill>
                <a:latin typeface="Arial"/>
              </a:rPr>
              <a:t>hibernate.cfg.xm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worzenie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trwałej klas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(POJ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worzenie pliku mapowania, opisującego sposób rzutowania klasy na bazę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Generacja tabel. Ręczna, lub za pomocą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SchemaExpo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aplikacji rozprowadzanej wraz z Hibernate, która tworzy schemat bazy na podstawie plików rzutowani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E331-5C4F-41C6-8C81-DCF2BE2DF2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Trwałe klasy(Persistant Classes)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OJO(Plain Old Java Objec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wałe klasy- klasy reprezentujące pewne konkretne obiekty biznesowe. Ich obiekty mogą być trwałe lub ulot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wałe obiekty powinny spełniać postulaty obiektów P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iekty POJ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la przeznaczone do utrwalenia powinny być dostępne przez metody typu setX, getX. Hibernate rozpoznaje także metody is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inny posiadać pusty konstruk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owinny posiadać jednoznaczny identyfikator dowolnego typu. Jeśli obiekty trwałe tego nie posiadają, traci się część funkcjonalność Hibern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epiej jest nie używać jako trwałych klas klas docelow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A50-9893-46A1-83AE-ACB8F9D696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wałe klas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plementacja trwałych kl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dziedziczeniu trzeba pamiętać o zachowaniu dwóch pierwszych zasad w klasach dziedzicząc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Jeżeli chcemy łączyć w zbiory trwałe obiekty różnych typów, należy przedefiniować dla ich klas funkcje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 hash(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equal(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Ponieważ nowe obiekty nie mają jeszcze przydzielonych jednoznacznych identyfikatorów należy do implementacji tych funkcji użyć danych biznesowych obiek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ożna zaimplementować interface’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interface Lifecyc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boolean onSave(Session s) throws CallbackExcep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boolean onUpdate(Session s) throws CallbackExcep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boolean onDelete(Session s) throws CallbackExcept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void onLoad(Session s, Serializable id)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interface Validatab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void validate() throws ValidationFailure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1FA-D250-4C57-A356-B6BA8F195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rwałe klas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klaracja rzutowa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Deklaracja rzutowania w kodzie- Hibernate obsługuje standard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XDOclet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Deklaracja rzutowania w plikach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XML</a:t>
            </a:r>
            <a:r>
              <a:rPr b="1" lang="pl-PL" sz="2400" spc="-1" strike="noStrike">
                <a:solidFill>
                  <a:srgbClr val="000000"/>
                </a:solidFill>
                <a:latin typeface="Arial Unicode MS"/>
              </a:rPr>
              <a:t> (organizacja modularn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2082-1997-4F62-8666-5789AD4547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Hibernate wyróżnia dwa podstawowe typy danych- obiekty i wart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Obiekty istnieją niezależnie od innych obiektów mających do nich referencje. Mogą więc być wersjonowane i dzielić ze sobą referenc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Wartości to typy podstawowe, kolekcje, komponenty i pewne inne niezmienne obiekty. Istnieją wraz z obiektem je przechowującym, nie są więc wersjonow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Hibernate obsługuje wszystkie podstawowe typy Jav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DB8C-431A-40CA-9DD3-53F20AF057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ypó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W Hibernate możemy utrwalać enumerator jako wartość jeśli zaimplementujemy w obiekcie enumeratora interfa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interface PersistentEnum 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int toInt()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public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void fromInt(int i)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;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Istnieje relatywnie prosty (jak twierdzą autorzy</a:t>
            </a:r>
            <a:r>
              <a:rPr b="0" lang="pl-P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) sposób tworzenia własnych typów wart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Możliwe są mapowania obiektów dowolnych typów do jednej tabelki typu </a:t>
            </a:r>
            <a:r>
              <a:rPr b="0" i="1" lang="pl-PL" sz="2400" spc="-1" strike="noStrike">
                <a:solidFill>
                  <a:srgbClr val="000000"/>
                </a:solidFill>
                <a:latin typeface="Arial Unicode MS"/>
              </a:rPr>
              <a:t>&lt;any&gt;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8A8-15AD-4A8C-B7EC-443A942C17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Możliwe jest trzymanie kolekcji jak normalnych wartości. Obsługiwane są kolekcje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Map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Set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SortedMap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SortedSet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List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, tablice wartości i trwałych obiektów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Są pewne zastrzeże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w Hibernate nie zachowują dodatkowej semantyki klas implementujących standardowy interface (np. HashLinkedSe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zachowują się jak 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HashMap, HashSet, TreeMap, TreeSet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lub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 ArrayList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. Wartość przechowują kolekcję musi być jednak typu interface’u (Map, Set... ). Hibernate „podmienia” użyte przez użytkownika kolekc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w przeciwieństwie do wartości pozwalają na współdzielone referencje i nie są usuwane wraz z obiekt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4F3A-E214-48BB-9CF3-B712485FFF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są automatycznie zapisywane, gdy zapisywany jest obiekt trzymający do nich referencję. Są też kasowane, gdy ginie ostatnio z obiektów na nie wskazując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Kolekcje mogą zawierać prawie każdy inny typ danych- nie mogą zawierać kolekc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Mogą zawierać zarówno wartości jak i referencje do trwałych obiek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Elementy kolekcji są mapowane według jednej ze strategii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&lt;element&gt;, &lt;composite-element&gt;, &lt;one-to-many&gt;, &lt;many-to-many&gt;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lub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 &lt;many-to-any&gt;</a:t>
            </a:r>
            <a:r>
              <a:rPr b="0" lang="en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Obiekty w kolekcji są rozpoznawane na podstawie klucza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(&lt;key&gt;).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Ich reprezentacje w bazie mają kolumnę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index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Indeksy są rzutowane przy użyciu definicji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&lt;i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ndex&gt;, &lt;index-many-to-many&gt;, &lt;composite-index&gt;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,</a:t>
            </a:r>
            <a:r>
              <a:rPr b="0" i="1" lang="en" sz="2000" spc="-1" strike="noStrike">
                <a:solidFill>
                  <a:srgbClr val="000000"/>
                </a:solidFill>
                <a:latin typeface="Arial Unicode MS"/>
              </a:rPr>
              <a:t> &lt;index-many-to-any&gt;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27AF-7CAA-4980-8C5F-1E8A86A39D9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zutowanie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olek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Kolekcje mogą być leniwie inicjalizow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Hibernate obsługuje dwustronne asocjacje typ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one-to-many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: za pomocą zbioru i wartości po drugiej str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Arial Unicode MS"/>
              </a:rPr>
              <a:t>many-to-many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: za pomocą pary zbior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Przykład użycia </a:t>
            </a:r>
            <a:r>
              <a:rPr b="0" lang="pl-PL" sz="24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OLEK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36E-E1E3-427F-AF91-F447E2A548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lan prezenta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Czym jest Hibern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ólna architektura aplikacji Hiber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Narzędz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apa drog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8D1-13E0-4FDD-A2EB-787345C6F6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 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Komponenty to obiekty trwałe, zależne od nadrzędnego, które są utrwalane tak jak wartości a nie niezależne obiekty.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class name="eg.Person" table="person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id name="Key" column="pid" type="string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generator class="uuid.hex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/i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birthday" type="date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component name="Name" class="eg.Name"&gt; &lt;!-- class attribute optional --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initial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first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property name="last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/componen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&lt;/clas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AA6-FCEF-49F1-820B-9026FF9BED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omponenty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życ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onenty zachowują się głównie jak wartości. Nie ma współdzielenia referencji do nich, są kasowane wraz z niszczeniem rodz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iekty mogą przechowywać kolekcje komponent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Komponenty mogą być nawet indeksami obiektów. Muszą wówcz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mplementować 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java.io.Serializab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uszą mieć przedefiniowane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equals()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hashCode(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788F-862E-4D2E-9789-3113DAB3E14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Dziedziczeni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Możliwości Hibern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ibernate umożliwia realizacje następujących strategii rzutowania dziedziczen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abela dla hierarchii k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Tabela dla każdej pod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abela dla konkretnej klas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dklasy są rozróżniane w bazie przez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discriminator-valu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2E4-A83C-4616-932E-050B42AE93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Wczytywanie i zapisywa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Zapisywanie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: 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save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Odczytywanie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: 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load()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get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– jeśli znamy identyfikator obiek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load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wczytuje obiekt, ale jeżeli nie będzie wiersza w tabeli o zadanym kluczu zostanie podniesiony wyjątek nie do przechwycenia. Metoda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get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zwróci w takim razie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Odczytywanie z wyszukiwaniem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 find(), iterate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Zapytania można podawać w specjalnym, obiektowym dialekcie SQL, którego używa Hibernate- HQ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Wyszukiwania mogą zwracać albo obiekty, albo tablice obiektów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Mogą również zwracać nie tylko obiekty ale i wartośc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6CED-908D-499D-96D7-CCD4930DB2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zeszukiwanie baz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Jeśli chcemy sprecyzować rozmiar danych zwracanych –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createQuery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Query q = sess.createQuery("from DomesticCat ca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q.setFirstResult(2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q.setMaxResults(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List cats = q.list(); </a:t>
            </a:r>
            <a:r>
              <a:rPr b="0" lang="pl-PL" sz="16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Można wywołać przedefiniowane w pliku mapowania szukanie-  </a:t>
            </a:r>
            <a:r>
              <a:rPr b="0" i="1" lang="en" sz="2200" spc="-1" strike="noStrike">
                <a:solidFill>
                  <a:srgbClr val="000000"/>
                </a:solidFill>
                <a:latin typeface="Arial Unicode MS"/>
              </a:rPr>
              <a:t>getNamedQuery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Można też zadać pytanie przez filtrowanie kolekcji-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 filt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Collection blackKittens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ion.filter( pk.getKittens(), "where this.color = ?", Color.BLACK, Hibernate.enum(Color.class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W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filter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można odwoływać się do obiektu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this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i nie potrzeba klauzuli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from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D3C-2E14-48FB-9EE5-79672CF29E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Przeszukiwanie baz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rzeszukiwanie po kryteriach- Jest to troszkę słabszy mechanizm od HQL, ale bardzo wygodny i ciągle jeszcze rozwijan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Criteria crit = session.createCriteria(Cat.clas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crit.add( Expression.eq("color", eg.Color.BLACK)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crit.setMaxResults(1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600" spc="-1" strike="noStrike">
                <a:solidFill>
                  <a:srgbClr val="000000"/>
                </a:solidFill>
                <a:latin typeface="Arial Unicode MS"/>
              </a:rPr>
              <a:t>List cats = crit.lis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rzeszukiwania w SQL- </a:t>
            </a:r>
            <a:r>
              <a:rPr b="0" i="1" lang="en" sz="2200" spc="-1" strike="noStrike">
                <a:solidFill>
                  <a:srgbClr val="000000"/>
                </a:solidFill>
                <a:latin typeface="Times New Roman"/>
              </a:rPr>
              <a:t>createSQLQuery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List cats 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ion.createSQLQuery( "SELECT {cat}.ID AS {cat.id}, {cat}.SEX AS {cat.sex}, "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"{cat}.MATE AS {cat.mate}, {cat}.SUBCLASS AS {cat.class}, ...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”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"FROM CAT {cat} WHERE ROWNUM&lt;10",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"cat", Cat.cla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).list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335-E2CD-416D-90EB-52E1E9DE88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ktualizacja baz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Najprostszym sposobem aktualizacji jest wczytanie obiektu i jego bezpośrednia zmiana. Zmiany na obiektach zapisuje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flush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DomesticCat cat = (DomesticCat) sess.load( Cat.class, new Long(69)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cat.setName("PK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flush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Obiekty odłączone od sesji (ich sesja została np. zamknięta) aktualizujemy metodą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update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Do zapisywania nowego obiektu, lub aktualizacji służy metoda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updateOrSave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Cat cat = (Cat) firstSession.load(Cat.class, catI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Cat mate = new Cat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cat.setMate(m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... Po jakimś  czasie, stara sesja jest zamknięta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condSession.saveOrUpdate(cat);   // aktualizacja (cat ma id non-nu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condSession.saveOrUpdate(mate);  // zapis (mate ma id nu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A71-8984-4B67-A32C-3C356C68BD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ktualizacja bazy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onowne przyłączanie odłączonego od sesji obiektu –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lock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dolacze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ss.lock(fritz, LockMode.NON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sprawdza wersje obiektu i dolac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ss.lock(izi, LockMode.READ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//sprawdza wersje obiektu poprzez SELECT ... FOR UPDATE, potem dolac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sess.lock(pk, LockMode.UPGRAD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Kasowanie obiektów – </a:t>
            </a:r>
            <a:r>
              <a:rPr b="0" i="1" lang="pl-PL" sz="2200" spc="-1" strike="noStrike">
                <a:solidFill>
                  <a:srgbClr val="000000"/>
                </a:solidFill>
                <a:latin typeface="Times New Roman"/>
              </a:rPr>
              <a:t>delete(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Kasuje dany obiekt, bądź wynik zapytania HQ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Zapisanie zmian w baz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y niektórych wywołaniach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" sz="2000" spc="-1" strike="noStrike">
                <a:solidFill>
                  <a:srgbClr val="000000"/>
                </a:solidFill>
                <a:latin typeface="Times New Roman"/>
              </a:rPr>
              <a:t>find(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, lub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" sz="2000" spc="-1" strike="noStrike">
                <a:solidFill>
                  <a:srgbClr val="000000"/>
                </a:solidFill>
                <a:latin typeface="Times New Roman"/>
              </a:rPr>
              <a:t>iterat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z n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et.sf.hibernate.Transaction.commit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zez </a:t>
            </a:r>
            <a:r>
              <a:rPr b="0" lang="en" sz="2000" spc="-1" strike="noStrike">
                <a:solidFill>
                  <a:srgbClr val="000000"/>
                </a:solidFill>
                <a:latin typeface="Times New Roman"/>
              </a:rPr>
              <a:t>Session.flush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9488-F657-460C-B3AD-D9688E19106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Interface biblioteki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Kończenie ses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Kończymy sesje zależnie od połączenia z którego korzystamy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Gdy używamy połączenia nadanego przez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ssion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x.commit(); // 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albo tx.rollback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clos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żywamy własnego połączenia JD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flush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connection().commit(); // not necessary for JTA data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.close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Jeżeli sesja skończy się wyjątkiem należy wykonać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rollback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, zamknąć sesję </a:t>
            </a:r>
            <a:r>
              <a:rPr b="0" i="1" lang="pl-PL" sz="2200" spc="-1" strike="noStrike">
                <a:solidFill>
                  <a:srgbClr val="000000"/>
                </a:solidFill>
                <a:latin typeface="Arial Unicode MS"/>
              </a:rPr>
              <a:t>close()</a:t>
            </a:r>
            <a:r>
              <a:rPr b="0" lang="pl-PL" sz="2200" spc="-1" strike="noStrike">
                <a:solidFill>
                  <a:srgbClr val="000000"/>
                </a:solidFill>
                <a:latin typeface="Arial Unicode MS"/>
              </a:rPr>
              <a:t> i zniszczyć obiekt sesj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Session sess = factory.openSession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ransaction tx = nul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ry {tx = sess.beginTransaction(); /</a:t>
            </a: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* costam...  */ 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tx.commit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catch (Exception e) { if (tx!=null) tx.rollback(); throw e; 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400" spc="-1" strike="noStrike">
                <a:solidFill>
                  <a:srgbClr val="000000"/>
                </a:solidFill>
                <a:latin typeface="Arial Unicode MS"/>
              </a:rPr>
              <a:t>finally { sess.close()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E498-8FF6-4C33-9186-8046FDAA90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rzędzia</a:t>
            </a:r>
            <a:br>
              <a:rPr sz="36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arzędzia dostępne w dystrybucj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chema Generator- Do generowania plików DDL na podstawie plików map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de Generation- Do generowania deklaracji klas, na podstawie plików mapow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apping File Generation- Do generowania plików mapowania na podstawie skompilowanych trwałych k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8EED-4124-4B6C-8DA8-AD1458B0328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Czym jest i co zawie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ibernate- biblioteka J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el- zastąpienie ciężkiej pracy programisty... Przesłonięcie zabawy z 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dea- rzutowanie z modelu obiektowego na relacyj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apis i odczyt obiektów Java w bazie danych 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echanizm przeglądania bazy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Możliwość obsługi wszystkich standardowych obiektów Javy, także kolekcj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bsługa większości standardów baz danych i rozszerzeń technologii Ja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890-915C-4BA4-86EC-C7D11C03A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Mapa Drogow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343040" y="167616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ibernat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Nowa, przełomowa wersja Hiber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rtualizacja – filtrowanie na poziomie ses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Większa uniwersalność rzutowan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Generowanie statystyk przy użyciu JM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Niezależność reprezentacji – możliwość odejścia od modelu P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sługa zdań SQL użytkowni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sługa zdarzeń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Leniwe czytanie k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Łatwiejszy w obsłud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i wiele innych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167652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3276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ibernate 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mpletna, stabilna wersja Hibernate, o która oparłem tą prezentac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352680"/>
            <a:ext cx="365760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Hibernate EJ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zęść EJB industry standard, stworzonego przez EJB3 Expert Group. Próba integracji mapowania obiektowo-relacyjnego z centrum Jav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3C1-D3E5-40FC-A500-83301215003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http://www.hibernate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http://hibernate.sourceforge.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00000"/>
                </a:solidFill>
                <a:latin typeface="Amethyst"/>
              </a:rPr>
              <a:t>Dziękuję za uwag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087-C09C-4D33-9B47-21F0251DF9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Czym się chwalą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ibernate zapewnia trwałość obiektów bez potrzeby pisania dodatkowego kod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je obiektowy język zapytań do bazy danych – HQ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Realizuje w sposób możliwie najbardziej uniwersalny rzutowanie z modelu obiektowego na relacyj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roste AP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Automatyczne generowanie kluczy głów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efiniowanie rzutowania w standardzie X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HDLCA- Architektura Hibern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skonała wydajnoś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ełna integracja ze standardami J2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podobno jeszcze więcej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2E5-09F9-44D7-ABBD-342E66DFB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rchitek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hibernateOverview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477360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B9B-8285-49F9-B4A9-D3AAAEB217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Hibernate</a:t>
            </a:r>
            <a:br>
              <a:rPr sz="3600"/>
            </a:b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Architek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520" y="5791320"/>
            <a:ext cx="8076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Hibenate jest narzędziem możliwie uniwersalnym, aplikacje wykorzystują bibliotekę na różne sposoby. Powyżej dwa przykła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2057400"/>
          <a:ext cx="8763120" cy="36831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368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hibernateLite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343400" cy="3581280"/>
          </a:xfrm>
          <a:prstGeom prst="rect">
            <a:avLst/>
          </a:prstGeom>
          <a:ln w="0">
            <a:noFill/>
          </a:ln>
        </p:spPr>
      </p:pic>
      <p:pic>
        <p:nvPicPr>
          <p:cNvPr id="55" name="hibernateFull_cream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3712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448-CF5D-4447-8B45-2B2F6FCC4A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chitektur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yjaśnien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343400" y="4114800"/>
            <a:ext cx="4191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nnection Provi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asa tworząca połączenia. Jest niewidoczna dla programisty, ale możliwe jest jej przedefiniowanie, podmia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ansaction Fact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Klasa tworząca obiekty transakcj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07732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ssion Fact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Stały obiekt odpowiedzialny za tworzenie połączeń z bazą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Sess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Przelotny obiekt odpowiedzialny za jednowątkową komunikację klient-serwer. Używa połączenia JDB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ansac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Transakcja reprezentująca odpowiednik atomowej transakcji na bazie danyc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114800"/>
            <a:ext cx="35812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Persistant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Ulotne obiekty reprezentujące obiekty trwałe. Są skojarzone z dokładnie jedną sesj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Transient Objec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Obiekty trwałych klas, nie skojarzone z sesj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1F8-E77E-428A-8E48-70066299C3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t.sf.hibernate.cfg.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biekt konfiguracji jest potrzebny do zbudowania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Session Factory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Po jej zbudowaniu staje się bezużytecz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wiera opis interface’u z bazą danych, sposób rzutowania obiektów Javy na bazę SQL, opcje połączenia z bazą... I wiele innych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Mapowanie obiektów jest wczytywane zwykle z pliku X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Configuration cfg = new Configuratio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" sz="1200" spc="-1" strike="noStrike">
                <a:solidFill>
                  <a:srgbClr val="000000"/>
                </a:solidFill>
                <a:latin typeface="Arial"/>
              </a:rPr>
              <a:t>.addFile("Item.hbm.xml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figuracja może być ustawiana w kodzie programu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Properties props = new Properties(); ..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Configuration cfg = new Configuratio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.addClass(org.hibernate.auction.Item.class)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.setProperties(prop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Konfiguracja domyślna znajduje się w plikach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ibernate.properties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hibernate.config.xm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. Zmiana pliku konfiguracj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 Unicode MS"/>
              </a:rPr>
              <a:t>SessionFactory sf = new Configuration() .configure(</a:t>
            </a:r>
            <a:r>
              <a:rPr b="0" lang="pl-PL" sz="1200" spc="-1" strike="noStrike">
                <a:solidFill>
                  <a:srgbClr val="000000"/>
                </a:solidFill>
                <a:latin typeface="Arial Unicode MS"/>
              </a:rPr>
              <a:t>”my</a:t>
            </a:r>
            <a:r>
              <a:rPr b="0" lang="en" sz="1200" spc="-1" strike="noStrike">
                <a:solidFill>
                  <a:srgbClr val="000000"/>
                </a:solidFill>
                <a:latin typeface="Arial Unicode MS"/>
              </a:rPr>
              <a:t>db.cfg.xml") .buildSessionFactory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927-821F-4289-A0A0-234207AF8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badd"/>
            </a:gs>
            <a:gs pos="100000">
              <a:srgbClr val="41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Konfiguracja Hibernate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4000" spc="-1" strike="noStrike">
                <a:solidFill>
                  <a:srgbClr val="000000"/>
                </a:solidFill>
                <a:latin typeface="Times New Roman"/>
              </a:rPr>
              <a:t>net.sf.hibernate.cfg.Configu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ednym z rozwiązań jest edycja pliku </a:t>
            </a: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hibernate.config.xm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?xml version='1.0' encoding='utf-8'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DOCTYPE hibernate-configuration PUBLIC "-//Hibernate/Hibernate Configuration DTD 2.0//EN" "http://hibernate.sourceforge.net/hibernate-configuration-2.0.dtd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hibernate-configur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-- a SessionFactory instance listed as /jndi/name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session-factory name="java:comp/env/hibernate/SessionFactory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-- properties --&gt; &lt;property name="connection.datasource"&gt;my/first/datasource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dialect"&gt;net.sf.hibernate.dialect.MySQLDialect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show_sql"&gt;false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use_outer_join"&gt;true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transaction.factory_cla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net.sf.hibernate.transaction.JTATransactionFactory 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property name="jta.UserTransaction"&gt;java:comp/UserTransaction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!-- mapping files --&gt; &lt;mapping resource="org/hibernate/auction/Item.hbm.xml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/session-factor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&lt;/hibernate-configura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ówczas konfiguracja Hibernate w kodzie zamyka się 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200" spc="-1" strike="noStrike">
                <a:solidFill>
                  <a:srgbClr val="000000"/>
                </a:solidFill>
                <a:latin typeface="Arial"/>
              </a:rPr>
              <a:t>SessionFactory sf = new Configuration().configure().buildSessionFactory()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F6C-25A7-4904-9809-D9179FF0BA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0:42:15Z</dcterms:created>
  <dc:creator>Swaper</dc:creator>
  <dc:description/>
  <dc:language>en-US</dc:language>
  <cp:lastModifiedBy>Swaper</cp:lastModifiedBy>
  <dcterms:modified xsi:type="dcterms:W3CDTF">2004-10-24T21:54:20Z</dcterms:modified>
  <cp:revision>24</cp:revision>
  <dc:subject/>
  <dc:title>Hibernate</dc:title>
</cp:coreProperties>
</file>